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23.png" ContentType="image/png"/>
  <Override PartName="/ppt/media/image12.jpeg" ContentType="image/jpe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8.png" ContentType="image/png"/>
  <Override PartName="/ppt/media/image6.jpeg" ContentType="image/jpeg"/>
  <Override PartName="/ppt/media/image10.png" ContentType="image/png"/>
  <Override PartName="/ppt/media/image22.png" ContentType="image/png"/>
  <Override PartName="/ppt/media/image1.jpeg" ContentType="image/jpeg"/>
  <Override PartName="/ppt/media/image5.png" ContentType="image/png"/>
  <Override PartName="/ppt/media/image21.png" ContentType="image/png"/>
  <Override PartName="/ppt/media/image19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9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dt" idx="3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a50000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 type="ftr" idx="3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PlaceHolder 6"/>
          <p:cNvSpPr>
            <a:spLocks noGrp="1"/>
          </p:cNvSpPr>
          <p:nvPr>
            <p:ph type="sldNum" idx="3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B09DF-DDA0-429A-B641-EA327A5433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137E2-3EB3-4AB4-9947-1376A4AE2F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858DA-77A2-4823-B41B-334B8D3AC8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oot pressure, capillary action, and transpiration contribute to the movement of water within a plant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ranspiration is the movement of water molecules out of leaves. The faster water evaporates from a plant, shown in A, the stronger the pull of water upward from the roots, shown in B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4345D-5193-4EBA-B236-130D744B30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oot pressure, capillary action, and transpiration contribute to the movement of water within a plant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ranspiration is the movement of water molecules out of leaves. The faster water evaporates from a plant, shown in A, the stronger the pull of water upward from the roots, shown in B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46DF2-EB02-41D6-9214-82409E0C52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2250B-6A1C-4F2D-B485-B863E604E2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3A70A-2D2A-4611-B184-CAE7BBDAB2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A08D1-B58C-4AB8-9CC4-CE0E8B44CF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F0AA0-5C76-4BBD-8438-51B2959CE9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67548-88EE-46E7-8BED-0A7F4F9F03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493D0-1B38-4FD5-B99B-9A89B405CF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055AA-A6C3-44D3-B345-5049FD84AB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iagram shows the movement of sugars and water throughout the phloem and xylem as explained by the pressure-flow hypothesis. Materials move from a source cell, where photosynthesis produces a high concentration of sugars, to a sink cell, where sugars are lower in concentra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BD53D-2A9E-481F-9278-3B1085F1EC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96864-D572-4B85-B8A0-F126AA9F29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iagram shows the movement of sugars and water throughout the phloem and xylem as explained by the pressure-flow hypothesis. Materials move from a source cell, where photosynthesis produces a high concentration of sugars, to a sink cell, where sugars are lower in concentra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6C9FA-8EEC-4AEC-8A73-A275B6D06B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iagram shows the movement of sugars and water throughout the phloem and xylem as explained by the pressure-flow hypothesis. Materials move from a source cell, where photosynthesis produces a high concentration of sugars, to a sink cell, where sugars are lower in concentra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30039-31CD-4E48-8E82-85E877B1A4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iagram shows the movement of sugars and water throughout the phloem and xylem as explained by the pressure-flow hypothesis. Materials move from a source cell, where photosynthesis produces a high concentration of sugars, to a sink cell, where sugars are lower in concentra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F7791-4918-44ED-A5CE-609B320440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iagram shows the movement of sugars and water throughout the phloem and xylem as explained by the pressure-flow hypothesis. Materials move from a source cell, where photosynthesis produces a high concentration of sugars, to a sink cell, where sugars are lower in concentra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565D9-E074-4997-85F9-E7A76A0ECB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FFEF5-221B-469B-BCD6-9D8490755F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CC747-1762-4E09-A1EB-F2FAFE095E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53957-3F84-41D3-8ED8-1FE26FFA9C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A4939-42DF-49A0-98B5-9246C3BC6E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57B52-17E9-451A-959C-4CFF213F9B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EF008-6447-40B7-8C9B-ECBACB128B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882AF-28A1-48F4-8987-A57CCB6B03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39D2F-A493-4BC6-B954-12A39D7416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2581F-3124-43B2-9FE9-B34841BE72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0C0E9-1906-447D-B1E7-68E6F5F15B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pillary action—the result of water molecules’ ability to stick to one another and to the walls of a tube—contributes to the movement of water up the cells of xylem tissue. As shown here, capillary action causes water to move much higher in a narrow tube than in a wide tube.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pplying Concept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Which force—adhesion or cohesion—causes the water to stick to the walls of the glass tub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95177-E191-4C07-AFE7-5EFFE693A3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pillary action—the result of water molecules’ ability to stick to one another and to the walls of a tube—contributes to the movement of water up the cells of xylem tissue. As shown here, capillary action causes water to move much higher in a narrow tube than in a wide tube.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pplying Concept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Which force—adhesion or cohesion—causes the water to stick to the walls of the glass tub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9610E-228F-48F5-B309-88FA341C86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CBA04-D832-42DC-AA82-3CDA0EB3EF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A766C-3F1A-43C4-BC04-424ADFCE8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089D0-4181-4435-AC91-020BA96B9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09F408-D632-4FF1-BCDA-D3E94AA1C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959F40-29C6-4916-90B3-386799EF8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EC72A2-3A4D-4DF3-A7B4-8BB0F3365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44BE32-A758-4D26-9344-7B0D88C17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2DBC47-112A-4765-8E4A-C19B036AE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18B9D8-1185-48C1-A09C-699CFDAD6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60AB63-9C96-4918-8E20-7CF7E241B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F2466F-BD27-414D-8EB0-A852EE93B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09821B-75C5-489C-AD72-1F663619E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A7D9A5-4B16-4CB7-A674-23880F6A2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E298A-3425-4F3A-BA74-B3FC13DE7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0D1F90-D35B-46D1-8206-906CF9389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262165-9361-4CB7-AFCF-811261019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2B5EC9-D280-4F76-AF36-DE2BC465B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12E7F5-05B5-4502-99CE-7CD59FEC8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AAB01B-9ABB-4B3B-A191-A049B3A03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22AA1A-E4EF-40DC-B8CE-6B3604EAA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D262C4-2E1B-49F5-AC52-142984EAE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3D725F-1D52-4D5F-AAB2-7130ED15C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D170BE-AE23-44FC-A041-8244CF081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639199-1D92-48DE-8AA5-C640362D6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CD697-5777-4D7B-8FB5-A6204D644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9790C7-873B-41A4-95DA-9970BA9C5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1D1961-F191-4D45-9BF2-236252D75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BC8AA5-C16D-4CD2-A12F-F37AE4C1A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781EB0-307A-4484-943F-88AF4CB42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AAF8E3-1B72-4563-8D48-840AD2EBA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E85654-3B48-4203-9730-08704B58E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135EAC-A46A-4671-89E8-D80942018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7BCE58-7C67-4FAF-AC72-E393BFA20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18BE0F-AD2B-4C45-BD7F-02C406C33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E74237-D1C4-419C-8A09-401A62765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4B239-41F6-4BE3-ACDF-AF799E262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D49DD1-9B84-4061-8592-D6036C5BD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5925E4-5D69-46E6-93E6-13EA64F7F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481E79-2619-4540-85DF-32B435E02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D68AD-CD34-48B9-8884-827C6D174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B2C3F-94AE-4F49-B451-4E51AEA0E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4500D-AE78-42AE-A799-051CB3014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43C83-A81F-4EAD-8EA1-C6F7E4052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1AD98-C8DA-4FE2-8D3A-A28B2419B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B86BE-7EAC-4947-85F8-77692FCDA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BE6F1-6E3F-4330-8E0C-2DE538559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4DC2D-048F-49D0-9930-D94325152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74058-6CF7-4584-9E3A-F1BBC5532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D7914-D334-4D7C-85C0-DF61C92F1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B5EB4-151D-491F-9BC9-622B87965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00C3D-58B0-4AE2-82FE-FACF0DC7B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CC5639-A9E2-425C-ABE2-3AEA5B94F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24382C-4146-402F-90ED-D385C71E3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F1CABF-720A-40B5-AC79-E2739212A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BE3010-08F8-4CE2-BE3A-9C04486BE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177CB4-82E5-408B-AC6F-91023609A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E26B4-75E0-419D-87C6-B2B84D4EB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72489C-195E-4EBD-BC65-35C3F9645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126E18-A848-483B-98BE-483A3FEE6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7ED9F1-3BDE-4E79-B93F-055BC0E0E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C01677-7061-423F-B563-F396F7A6F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96D3E3-9F3A-43FA-9CB5-DF2FC2FFA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7EEBD0-5580-4FA5-92B1-D78A4813A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42A2D2-12C9-4A01-946D-5F863DBCD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414AAD-D31F-4CEF-ABDB-F646DC185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90C097-D9AA-4FC5-BF4F-EDEC02F42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A52686-5B9E-4755-9132-A0B519BE7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186E4-1FE5-4E05-94C2-15AC81B9B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2C74A8-AE16-432B-93D7-B52A0192C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3BEAD7-13BC-4DA9-98E7-3709A5EF1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01D635-A810-459C-8F93-24B985FD5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E966D0-3247-49B8-8DB5-19C9CF9EE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07A559-27C3-409F-BEC4-906FFF891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E14E52-345F-4E2E-968C-0966238C4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4E8CBE-25AF-4F9E-B68C-AAD5BCDE9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DDC5C6-EA23-4F71-9F89-9CBB54812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577C9F-3927-4710-9F61-0DC4C287A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339AD3-B9BF-4E6C-9B24-712668A6D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C853D-2A05-4F83-BF8A-0387D5B07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3A2A2E-EF6E-4ABF-BF8B-F61DE4D15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E0B98F-B78C-41A9-8F48-B66DB33AF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70762C-CD8B-4BD8-A554-2377FDEBA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919B3F-52DC-4AF5-81E4-88B603412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E2EC3F-EC91-4E7D-A045-0D2A16E63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1DBB2E-E5C2-4813-9A61-C8C1D8C79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97E0DB-9D32-43C3-8A56-E4F723596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DA796A-4336-49C7-893B-132D4ECFD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FBCA27-CDAC-4054-8FD2-64435E476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4220CA-CEBF-4824-B614-5789D2021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70918-07EE-4FDC-9DED-769769E53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2D2AB0-DE98-41BF-BE85-00314BC90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F8CFA5-7353-42CC-A302-A2A29C375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DB6F5D-FC14-40BB-AEC2-FF178EF9E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289B5B-8C7B-4598-82DB-DD27F16DB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6ADDA5-488C-4E27-9817-80A471595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B04E2F-27E3-482A-A1D9-6B296F235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F12758-4EB1-4CA5-9385-6D22C088C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666B8B-B099-4F43-9DAD-16CEB06FC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D96898-A995-4FA6-9579-25D6675E6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F3C5E1-1F03-4F11-8C74-DC03F7293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0D472-D5D9-4664-B5A9-6AFB2A140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344B91-FD14-4889-9963-4BE77D92B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7DA05E-C05D-42A7-BBF8-565524335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68C565-FE19-4FCD-B9D1-204B286EE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1FBD9E-F986-4888-8A37-36BCBF549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9E981E-E983-4B47-AC07-FFDCD1666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5CFB6A-6392-4527-A5BB-143ADF9FC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F58F73-C1E1-4A0A-8FFE-71D4FD32F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122E8E-965B-47C7-98B6-17F5ED00A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C9386C-B261-4E9D-9847-7A639FFA7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C6632F-CDDB-4ECF-8544-90F83AF73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C346E-2136-46A2-AB62-8C47066B0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E18883-122B-4B57-B482-8384BCB27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71B968-4307-44AD-A825-5C9A14E45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945D82-CFE6-4380-843A-3F4FA4D4A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1844C2-8CB6-43D0-9723-60C30FB2F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A0C91A-4395-44D0-8548-8707AFB3F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FA4C4C-33FD-47C0-894B-F7E727966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C283EE-0268-4A1A-9047-A2F7A6C0C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DD4CAB-F9B1-40C9-A18C-50C7EEEBF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7313B2-DBDE-4C0D-BAE9-9A90C11CC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42777C-CE96-4FBB-AA17-75555047C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6ACE0-8A05-4EBE-B50B-D63DF44C1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44F0FC-05D4-4267-83B9-120BF1E60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A6CDB8-1453-4890-827F-408139F30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8B1DB4-8FD2-44AC-AD02-510D67F74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482219-F5C9-45D9-A07A-9788841C6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1D19E0-E64B-417C-AB23-BDA715474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B3C144-3B55-4490-AF8D-4515AC8F9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FC93BC-934E-4AB5-AEE0-85AB9E075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BEB9D7-C421-4E0F-8D20-1B54991B4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1A3108-88C4-4DD6-B4D0-503C6B170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8574F9-52D8-4FFE-8CA8-536BFAE74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7.jpe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image" Target="../media/image8.png"/><Relationship Id="rId6" Type="http://schemas.openxmlformats.org/officeDocument/2006/relationships/image" Target="../media/image9.jpe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109.xml"/><Relationship Id="rId9" Type="http://schemas.openxmlformats.org/officeDocument/2006/relationships/slideLayout" Target="../slideLayouts/slideLayout110.xml"/><Relationship Id="rId10" Type="http://schemas.openxmlformats.org/officeDocument/2006/relationships/slideLayout" Target="../slideLayouts/slideLayout111.xml"/><Relationship Id="rId11" Type="http://schemas.openxmlformats.org/officeDocument/2006/relationships/slideLayout" Target="../slideLayouts/slideLayout112.xml"/><Relationship Id="rId12" Type="http://schemas.openxmlformats.org/officeDocument/2006/relationships/slideLayout" Target="../slideLayouts/slideLayout113.xml"/><Relationship Id="rId13" Type="http://schemas.openxmlformats.org/officeDocument/2006/relationships/slideLayout" Target="../slideLayouts/slideLayout114.xml"/><Relationship Id="rId14" Type="http://schemas.openxmlformats.org/officeDocument/2006/relationships/slideLayout" Target="../slideLayouts/slideLayout115.xml"/><Relationship Id="rId15" Type="http://schemas.openxmlformats.org/officeDocument/2006/relationships/slideLayout" Target="../slideLayouts/slideLayout116.xml"/><Relationship Id="rId16" Type="http://schemas.openxmlformats.org/officeDocument/2006/relationships/slideLayout" Target="../slideLayouts/slideLayout117.xml"/><Relationship Id="rId17" Type="http://schemas.openxmlformats.org/officeDocument/2006/relationships/slideLayout" Target="../slideLayouts/slideLayout118.xml"/><Relationship Id="rId18" Type="http://schemas.openxmlformats.org/officeDocument/2006/relationships/slideLayout" Target="../slideLayouts/slideLayout119.xml"/><Relationship Id="rId19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7.jpe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21.xml"/><Relationship Id="rId7" Type="http://schemas.openxmlformats.org/officeDocument/2006/relationships/slideLayout" Target="../slideLayouts/slideLayout122.xml"/><Relationship Id="rId8" Type="http://schemas.openxmlformats.org/officeDocument/2006/relationships/slideLayout" Target="../slideLayouts/slideLayout123.xml"/><Relationship Id="rId9" Type="http://schemas.openxmlformats.org/officeDocument/2006/relationships/slideLayout" Target="../slideLayouts/slideLayout124.xml"/><Relationship Id="rId10" Type="http://schemas.openxmlformats.org/officeDocument/2006/relationships/slideLayout" Target="../slideLayouts/slideLayout125.xml"/><Relationship Id="rId11" Type="http://schemas.openxmlformats.org/officeDocument/2006/relationships/slideLayout" Target="../slideLayouts/slideLayout126.xml"/><Relationship Id="rId12" Type="http://schemas.openxmlformats.org/officeDocument/2006/relationships/slideLayout" Target="../slideLayouts/slideLayout127.xml"/><Relationship Id="rId13" Type="http://schemas.openxmlformats.org/officeDocument/2006/relationships/slideLayout" Target="../slideLayouts/slideLayout128.xml"/><Relationship Id="rId14" Type="http://schemas.openxmlformats.org/officeDocument/2006/relationships/slideLayout" Target="../slideLayouts/slideLayout129.xml"/><Relationship Id="rId15" Type="http://schemas.openxmlformats.org/officeDocument/2006/relationships/slideLayout" Target="../slideLayouts/slideLayout130.xml"/><Relationship Id="rId16" Type="http://schemas.openxmlformats.org/officeDocument/2006/relationships/slideLayout" Target="../slideLayouts/slideLayout131.xml"/><Relationship Id="rId17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4.jpeg"/><Relationship Id="rId5" Type="http://schemas.openxmlformats.org/officeDocument/2006/relationships/image" Target="../media/image3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4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4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image" Target="../media/image2.png"/><Relationship Id="rId4" Type="http://schemas.openxmlformats.org/officeDocument/2006/relationships/image" Target="../media/image4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outine copy"/>
          <p:cNvPicPr/>
          <p:nvPr/>
        </p:nvPicPr>
        <p:blipFill>
          <a:blip r:embed="rId2"/>
          <a:stretch/>
        </p:blipFill>
        <p:spPr>
          <a:xfrm>
            <a:off x="0" y="-144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red button"/>
          <p:cNvPicPr/>
          <p:nvPr/>
        </p:nvPicPr>
        <p:blipFill>
          <a:blip r:embed="rId3"/>
          <a:stretch/>
        </p:blipFill>
        <p:spPr>
          <a:xfrm>
            <a:off x="8048520" y="6399360"/>
            <a:ext cx="1143000" cy="406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>
          <a:xfrm>
            <a:off x="914400" y="6278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>
          <a:xfrm>
            <a:off x="2858760" y="6578280"/>
            <a:ext cx="289548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353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535353"/>
                </a:solidFill>
                <a:latin typeface="Times New Roman"/>
              </a:rPr>
              <a:t>Copyright Pearson Prentice Hal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>
          <a:xfrm>
            <a:off x="5994360" y="6188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8"/>
          <p:cNvSpPr/>
          <p:nvPr/>
        </p:nvSpPr>
        <p:spPr>
          <a:xfrm>
            <a:off x="0" y="12193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000"/>
              </a:spcBef>
              <a:spcAft>
                <a:spcPts val="29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9"/>
          <p:cNvSpPr/>
          <p:nvPr/>
        </p:nvSpPr>
        <p:spPr>
          <a:xfrm>
            <a:off x="609480" y="638496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Text Box 10"/>
          <p:cNvSpPr/>
          <p:nvPr/>
        </p:nvSpPr>
        <p:spPr>
          <a:xfrm>
            <a:off x="0" y="12193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Text Box 11"/>
          <p:cNvSpPr/>
          <p:nvPr/>
        </p:nvSpPr>
        <p:spPr>
          <a:xfrm>
            <a:off x="8213400" y="6448320"/>
            <a:ext cx="91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End Show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Rectangle 12">
            <a:hlinkClick r:id="" action="ppaction://hlinkshowjump?jump=endshow"/>
          </p:cNvPr>
          <p:cNvSpPr/>
          <p:nvPr/>
        </p:nvSpPr>
        <p:spPr>
          <a:xfrm>
            <a:off x="8053560" y="6346800"/>
            <a:ext cx="11476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title"/>
          </p:nvPr>
        </p:nvSpPr>
        <p:spPr>
          <a:xfrm>
            <a:off x="1638000" y="-360"/>
            <a:ext cx="655164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" name="Picture 17" descr="logo_ph"/>
          <p:cNvPicPr/>
          <p:nvPr/>
        </p:nvPicPr>
        <p:blipFill>
          <a:blip r:embed="rId4"/>
          <a:stretch/>
        </p:blipFill>
        <p:spPr>
          <a:xfrm>
            <a:off x="162000" y="6267600"/>
            <a:ext cx="588960" cy="446040"/>
          </a:xfrm>
          <a:prstGeom prst="rect">
            <a:avLst/>
          </a:prstGeom>
          <a:ln w="0">
            <a:noFill/>
          </a:ln>
        </p:spPr>
      </p:pic>
      <p:sp>
        <p:nvSpPr>
          <p:cNvPr id="12" name="Rectangle 18"/>
          <p:cNvSpPr/>
          <p:nvPr/>
        </p:nvSpPr>
        <p:spPr>
          <a:xfrm>
            <a:off x="6816600" y="5967360"/>
            <a:ext cx="228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lide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60885-7749-49EE-8386-573B27EC60B1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of 3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8" name="Picture 2" descr="bio section open3"/>
          <p:cNvPicPr/>
          <p:nvPr/>
        </p:nvPicPr>
        <p:blipFill>
          <a:blip r:embed="rId2"/>
          <a:stretch/>
        </p:blipFill>
        <p:spPr>
          <a:xfrm>
            <a:off x="0" y="0"/>
            <a:ext cx="9182160" cy="6883560"/>
          </a:xfrm>
          <a:prstGeom prst="rect">
            <a:avLst/>
          </a:prstGeom>
          <a:ln w="0">
            <a:noFill/>
          </a:ln>
        </p:spPr>
      </p:pic>
      <p:sp>
        <p:nvSpPr>
          <p:cNvPr id="459" name="Rectangle 3"/>
          <p:cNvSpPr/>
          <p:nvPr/>
        </p:nvSpPr>
        <p:spPr>
          <a:xfrm>
            <a:off x="-14400" y="20520"/>
            <a:ext cx="3840120" cy="19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body"/>
          </p:nvPr>
        </p:nvSpPr>
        <p:spPr>
          <a:xfrm>
            <a:off x="272520" y="1095120"/>
            <a:ext cx="8502840" cy="43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  <a:p>
            <a:pPr lvl="1" marL="291600" indent="-291600">
              <a:spcAft>
                <a:spcPts val="2001"/>
              </a:spcAft>
              <a:buClr>
                <a:srgbClr val="0064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  <a:p>
            <a:pPr lvl="2" marL="291600" indent="-291600">
              <a:spcAft>
                <a:spcPts val="20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  <a:p>
            <a:pPr lvl="3" marL="291600" indent="-291600">
              <a:spcAft>
                <a:spcPts val="2001"/>
              </a:spcAft>
              <a:buClr>
                <a:srgbClr val="000000"/>
              </a:buClr>
              <a:buFont typeface="Arial"/>
              <a:buAutoNum type="alphaLcPeriod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  <a:p>
            <a:pPr lvl="4" marL="291600" indent="-291600">
              <a:spcAft>
                <a:spcPts val="2001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  <a:p>
            <a:pPr lvl="5" marL="291600" indent="-291600">
              <a:spcAft>
                <a:spcPts val="2001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  <a:p>
            <a:pPr lvl="6" marL="291600" indent="-291600">
              <a:spcAft>
                <a:spcPts val="2001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 type="ftr" idx="29"/>
          </p:nvPr>
        </p:nvSpPr>
        <p:spPr>
          <a:xfrm>
            <a:off x="3124080" y="6629040"/>
            <a:ext cx="289584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353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535353"/>
                </a:solidFill>
                <a:latin typeface="Times New Roman"/>
              </a:rPr>
              <a:t>Copyright Pearson Prentice Hal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 type="sldNum" idx="30"/>
          </p:nvPr>
        </p:nvSpPr>
        <p:spPr>
          <a:xfrm>
            <a:off x="6791040" y="61833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Rectangle 8"/>
          <p:cNvSpPr/>
          <p:nvPr/>
        </p:nvSpPr>
        <p:spPr>
          <a:xfrm>
            <a:off x="0" y="12193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5" name="Picture 9" descr="logo_ph"/>
          <p:cNvPicPr/>
          <p:nvPr/>
        </p:nvPicPr>
        <p:blipFill>
          <a:blip r:embed="rId3"/>
          <a:stretch/>
        </p:blipFill>
        <p:spPr>
          <a:xfrm>
            <a:off x="162000" y="6267600"/>
            <a:ext cx="588960" cy="446040"/>
          </a:xfrm>
          <a:prstGeom prst="rect">
            <a:avLst/>
          </a:prstGeom>
          <a:ln w="0">
            <a:noFill/>
          </a:ln>
        </p:spPr>
      </p:pic>
      <p:sp>
        <p:nvSpPr>
          <p:cNvPr id="466" name="Rectangle 10"/>
          <p:cNvSpPr/>
          <p:nvPr/>
        </p:nvSpPr>
        <p:spPr>
          <a:xfrm>
            <a:off x="609480" y="638496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 Box 11"/>
          <p:cNvSpPr/>
          <p:nvPr/>
        </p:nvSpPr>
        <p:spPr>
          <a:xfrm>
            <a:off x="0" y="12193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Rectangle 12"/>
          <p:cNvSpPr/>
          <p:nvPr/>
        </p:nvSpPr>
        <p:spPr>
          <a:xfrm>
            <a:off x="0" y="0"/>
            <a:ext cx="9158400" cy="333360"/>
          </a:xfrm>
          <a:prstGeom prst="rect">
            <a:avLst/>
          </a:prstGeom>
          <a:solidFill>
            <a:srgbClr val="2c2c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Rectangle 13">
            <a:hlinkClick r:id="" action="ppaction://hlinkshowjump?jump=endshow"/>
          </p:cNvPr>
          <p:cNvSpPr/>
          <p:nvPr/>
        </p:nvSpPr>
        <p:spPr>
          <a:xfrm>
            <a:off x="8053560" y="6346800"/>
            <a:ext cx="11476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0" name="Picture 14" descr="red button"/>
          <p:cNvPicPr/>
          <p:nvPr/>
        </p:nvPicPr>
        <p:blipFill>
          <a:blip r:embed="rId4"/>
          <a:stretch/>
        </p:blipFill>
        <p:spPr>
          <a:xfrm>
            <a:off x="8048520" y="6399360"/>
            <a:ext cx="1143000" cy="406080"/>
          </a:xfrm>
          <a:prstGeom prst="rect">
            <a:avLst/>
          </a:prstGeom>
          <a:ln w="0">
            <a:noFill/>
          </a:ln>
        </p:spPr>
      </p:pic>
      <p:sp>
        <p:nvSpPr>
          <p:cNvPr id="471" name="Text Box 15"/>
          <p:cNvSpPr/>
          <p:nvPr/>
        </p:nvSpPr>
        <p:spPr>
          <a:xfrm>
            <a:off x="8213400" y="6448320"/>
            <a:ext cx="91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End Show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Rectangle 16">
            <a:hlinkClick r:id="" action="ppaction://hlinkshowjump?jump=endshow"/>
          </p:cNvPr>
          <p:cNvSpPr/>
          <p:nvPr/>
        </p:nvSpPr>
        <p:spPr>
          <a:xfrm>
            <a:off x="7996320" y="6308640"/>
            <a:ext cx="11476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3" name="Picture 17" descr="section quizr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1028880" y="2919240"/>
            <a:ext cx="2757240" cy="597240"/>
          </a:xfrm>
          <a:prstGeom prst="rect">
            <a:avLst/>
          </a:prstGeom>
          <a:ln w="0">
            <a:noFill/>
          </a:ln>
        </p:spPr>
      </p:pic>
      <p:pic>
        <p:nvPicPr>
          <p:cNvPr id="474" name="Picture 18" descr="QT_icon"/>
          <p:cNvPicPr/>
          <p:nvPr/>
        </p:nvPicPr>
        <p:blipFill>
          <a:blip r:embed="rId6"/>
          <a:stretch/>
        </p:blipFill>
        <p:spPr>
          <a:xfrm>
            <a:off x="5446800" y="2730600"/>
            <a:ext cx="2211480" cy="853920"/>
          </a:xfrm>
          <a:prstGeom prst="rect">
            <a:avLst/>
          </a:prstGeom>
          <a:ln w="0">
            <a:noFill/>
          </a:ln>
        </p:spPr>
      </p:pic>
      <p:sp>
        <p:nvSpPr>
          <p:cNvPr id="475" name="Text Box 19"/>
          <p:cNvSpPr/>
          <p:nvPr/>
        </p:nvSpPr>
        <p:spPr>
          <a:xfrm>
            <a:off x="4017960" y="2658960"/>
            <a:ext cx="93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- or -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6" name="Picture 20" descr="sectionQUIZ_BAR copy"/>
          <p:cNvPicPr/>
          <p:nvPr/>
        </p:nvPicPr>
        <p:blipFill>
          <a:blip r:embed="rId7"/>
          <a:stretch/>
        </p:blipFill>
        <p:spPr>
          <a:xfrm>
            <a:off x="0" y="0"/>
            <a:ext cx="4900680" cy="771480"/>
          </a:xfrm>
          <a:prstGeom prst="rect">
            <a:avLst/>
          </a:prstGeom>
          <a:ln w="0">
            <a:noFill/>
          </a:ln>
        </p:spPr>
      </p:pic>
      <p:sp>
        <p:nvSpPr>
          <p:cNvPr id="477" name="Text Box 21"/>
          <p:cNvSpPr/>
          <p:nvPr/>
        </p:nvSpPr>
        <p:spPr>
          <a:xfrm>
            <a:off x="1152360" y="2276640"/>
            <a:ext cx="231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 to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 Box 22"/>
          <p:cNvSpPr/>
          <p:nvPr/>
        </p:nvSpPr>
        <p:spPr>
          <a:xfrm>
            <a:off x="5286240" y="2273400"/>
            <a:ext cx="25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Launch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title"/>
          </p:nvPr>
        </p:nvSpPr>
        <p:spPr>
          <a:xfrm>
            <a:off x="14400" y="-673560"/>
            <a:ext cx="106992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Rectangle 24"/>
          <p:cNvSpPr/>
          <p:nvPr/>
        </p:nvSpPr>
        <p:spPr>
          <a:xfrm>
            <a:off x="6816600" y="5967360"/>
            <a:ext cx="228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lide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798F2-016E-4C79-AC95-B487B35BAAE6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of 3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8"/>
    <p:sldLayoutId id="2147483767" r:id="rId9"/>
    <p:sldLayoutId id="2147483768" r:id="rId10"/>
    <p:sldLayoutId id="2147483769" r:id="rId11"/>
    <p:sldLayoutId id="2147483770" r:id="rId12"/>
    <p:sldLayoutId id="2147483771" r:id="rId13"/>
    <p:sldLayoutId id="2147483772" r:id="rId14"/>
    <p:sldLayoutId id="2147483773" r:id="rId15"/>
    <p:sldLayoutId id="2147483774" r:id="rId16"/>
    <p:sldLayoutId id="2147483775" r:id="rId17"/>
    <p:sldLayoutId id="2147483776" r:id="rId18"/>
    <p:sldLayoutId id="2147483777" r:id="rId19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7" name="Picture 2" descr="bio section open3"/>
          <p:cNvPicPr/>
          <p:nvPr/>
        </p:nvPicPr>
        <p:blipFill>
          <a:blip r:embed="rId2"/>
          <a:stretch/>
        </p:blipFill>
        <p:spPr>
          <a:xfrm>
            <a:off x="0" y="0"/>
            <a:ext cx="9182160" cy="6883560"/>
          </a:xfrm>
          <a:prstGeom prst="rect">
            <a:avLst/>
          </a:prstGeom>
          <a:ln w="0">
            <a:noFill/>
          </a:ln>
        </p:spPr>
      </p:pic>
      <p:sp>
        <p:nvSpPr>
          <p:cNvPr id="518" name="Rectangle 3"/>
          <p:cNvSpPr/>
          <p:nvPr/>
        </p:nvSpPr>
        <p:spPr>
          <a:xfrm>
            <a:off x="-14400" y="20520"/>
            <a:ext cx="3840120" cy="19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body"/>
          </p:nvPr>
        </p:nvSpPr>
        <p:spPr>
          <a:xfrm>
            <a:off x="272520" y="1095120"/>
            <a:ext cx="8502840" cy="43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  <a:p>
            <a:pPr lvl="1" marL="291600" indent="-291600">
              <a:spcAft>
                <a:spcPts val="2001"/>
              </a:spcAft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  <a:p>
            <a:pPr lvl="2" marL="291600" indent="-291600">
              <a:spcAft>
                <a:spcPts val="2001"/>
              </a:spcAft>
              <a:buClr>
                <a:srgbClr val="000000"/>
              </a:buClr>
              <a:buFont typeface="Arial"/>
              <a:buAutoNum type="alphaLcPeriod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  <a:p>
            <a:pPr lvl="3" marL="291600" indent="-291600">
              <a:spcAft>
                <a:spcPts val="2001"/>
              </a:spcAft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  <a:p>
            <a:pPr lvl="4" marL="291600" indent="-291600">
              <a:spcAft>
                <a:spcPts val="2001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  <a:p>
            <a:pPr lvl="5" marL="291600" indent="-291600">
              <a:spcAft>
                <a:spcPts val="2001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  <a:p>
            <a:pPr lvl="6" marL="291600" indent="-291600">
              <a:spcAft>
                <a:spcPts val="2001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ftr" idx="32"/>
          </p:nvPr>
        </p:nvSpPr>
        <p:spPr>
          <a:xfrm>
            <a:off x="3124080" y="6629040"/>
            <a:ext cx="289584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353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535353"/>
                </a:solidFill>
                <a:latin typeface="Times New Roman"/>
              </a:rPr>
              <a:t>Copyright Pearson Prentice Hal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sldNum" idx="33"/>
          </p:nvPr>
        </p:nvSpPr>
        <p:spPr>
          <a:xfrm>
            <a:off x="6791040" y="61833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Rectangle 8"/>
          <p:cNvSpPr/>
          <p:nvPr/>
        </p:nvSpPr>
        <p:spPr>
          <a:xfrm>
            <a:off x="0" y="12193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Aft>
                <a:spcPts val="2001"/>
              </a:spcAft>
              <a:tabLst>
                <a:tab algn="l" pos="0"/>
                <a:tab algn="l" pos="808200"/>
                <a:tab algn="l" pos="1311120"/>
                <a:tab algn="l" pos="165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4" name="Picture 9" descr="logo_ph"/>
          <p:cNvPicPr/>
          <p:nvPr/>
        </p:nvPicPr>
        <p:blipFill>
          <a:blip r:embed="rId3"/>
          <a:stretch/>
        </p:blipFill>
        <p:spPr>
          <a:xfrm>
            <a:off x="162000" y="6267600"/>
            <a:ext cx="588960" cy="446040"/>
          </a:xfrm>
          <a:prstGeom prst="rect">
            <a:avLst/>
          </a:prstGeom>
          <a:ln w="0">
            <a:noFill/>
          </a:ln>
        </p:spPr>
      </p:pic>
      <p:sp>
        <p:nvSpPr>
          <p:cNvPr id="525" name="Rectangle 10"/>
          <p:cNvSpPr/>
          <p:nvPr/>
        </p:nvSpPr>
        <p:spPr>
          <a:xfrm>
            <a:off x="609480" y="638496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Text Box 11"/>
          <p:cNvSpPr/>
          <p:nvPr/>
        </p:nvSpPr>
        <p:spPr>
          <a:xfrm>
            <a:off x="0" y="12193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Rectangle 12"/>
          <p:cNvSpPr/>
          <p:nvPr/>
        </p:nvSpPr>
        <p:spPr>
          <a:xfrm>
            <a:off x="0" y="0"/>
            <a:ext cx="9158400" cy="333360"/>
          </a:xfrm>
          <a:prstGeom prst="rect">
            <a:avLst/>
          </a:prstGeom>
          <a:solidFill>
            <a:srgbClr val="2c2c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Rectangle 13">
            <a:hlinkClick r:id="" action="ppaction://hlinkshowjump?jump=endshow"/>
          </p:cNvPr>
          <p:cNvSpPr/>
          <p:nvPr/>
        </p:nvSpPr>
        <p:spPr>
          <a:xfrm>
            <a:off x="8053560" y="6346800"/>
            <a:ext cx="11476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9" name="Picture 14" descr="red button"/>
          <p:cNvPicPr/>
          <p:nvPr/>
        </p:nvPicPr>
        <p:blipFill>
          <a:blip r:embed="rId4"/>
          <a:stretch/>
        </p:blipFill>
        <p:spPr>
          <a:xfrm>
            <a:off x="8048520" y="6399360"/>
            <a:ext cx="1143000" cy="406080"/>
          </a:xfrm>
          <a:prstGeom prst="rect">
            <a:avLst/>
          </a:prstGeom>
          <a:ln w="0">
            <a:noFill/>
          </a:ln>
        </p:spPr>
      </p:pic>
      <p:sp>
        <p:nvSpPr>
          <p:cNvPr id="530" name="Text Box 15"/>
          <p:cNvSpPr/>
          <p:nvPr/>
        </p:nvSpPr>
        <p:spPr>
          <a:xfrm>
            <a:off x="8213400" y="6448320"/>
            <a:ext cx="91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End Show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Rectangle 16">
            <a:hlinkClick r:id="" action="ppaction://hlinkshowjump?jump=endshow"/>
          </p:cNvPr>
          <p:cNvSpPr/>
          <p:nvPr/>
        </p:nvSpPr>
        <p:spPr>
          <a:xfrm>
            <a:off x="7996320" y="6308640"/>
            <a:ext cx="11476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2" name="Picture 17" descr="sectionQUIZ_BAR copy"/>
          <p:cNvPicPr/>
          <p:nvPr/>
        </p:nvPicPr>
        <p:blipFill>
          <a:blip r:embed="rId5"/>
          <a:stretch/>
        </p:blipFill>
        <p:spPr>
          <a:xfrm>
            <a:off x="0" y="0"/>
            <a:ext cx="4900680" cy="771480"/>
          </a:xfrm>
          <a:prstGeom prst="rect">
            <a:avLst/>
          </a:prstGeom>
          <a:ln w="0">
            <a:noFill/>
          </a:ln>
        </p:spPr>
      </p:pic>
      <p:sp>
        <p:nvSpPr>
          <p:cNvPr id="533" name="PlaceHolder 5"/>
          <p:cNvSpPr>
            <a:spLocks noGrp="1"/>
          </p:cNvSpPr>
          <p:nvPr>
            <p:ph type="title"/>
          </p:nvPr>
        </p:nvSpPr>
        <p:spPr>
          <a:xfrm>
            <a:off x="14400" y="-673560"/>
            <a:ext cx="106992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Rectangle 19"/>
          <p:cNvSpPr/>
          <p:nvPr/>
        </p:nvSpPr>
        <p:spPr>
          <a:xfrm>
            <a:off x="6816600" y="5967360"/>
            <a:ext cx="228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lide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C4CD1-35C3-4A8A-A169-A260A0443D58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of 3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6"/>
    <p:sldLayoutId id="2147483780" r:id="rId7"/>
    <p:sldLayoutId id="2147483781" r:id="rId8"/>
    <p:sldLayoutId id="2147483782" r:id="rId9"/>
    <p:sldLayoutId id="2147483783" r:id="rId10"/>
    <p:sldLayoutId id="2147483784" r:id="rId11"/>
    <p:sldLayoutId id="2147483785" r:id="rId12"/>
    <p:sldLayoutId id="2147483786" r:id="rId13"/>
    <p:sldLayoutId id="2147483787" r:id="rId14"/>
    <p:sldLayoutId id="2147483788" r:id="rId15"/>
    <p:sldLayoutId id="2147483789" r:id="rId16"/>
    <p:sldLayoutId id="2147483790" r:id="rId17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026" descr="outine copy"/>
          <p:cNvPicPr/>
          <p:nvPr/>
        </p:nvPicPr>
        <p:blipFill>
          <a:blip r:embed="rId2"/>
          <a:stretch/>
        </p:blipFill>
        <p:spPr>
          <a:xfrm>
            <a:off x="0" y="-144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027" descr="red button"/>
          <p:cNvPicPr/>
          <p:nvPr/>
        </p:nvPicPr>
        <p:blipFill>
          <a:blip r:embed="rId3"/>
          <a:stretch/>
        </p:blipFill>
        <p:spPr>
          <a:xfrm>
            <a:off x="8048520" y="6399360"/>
            <a:ext cx="1143000" cy="40608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dt" idx="4"/>
          </p:nvPr>
        </p:nvSpPr>
        <p:spPr>
          <a:xfrm>
            <a:off x="914400" y="6278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ftr" idx="5"/>
          </p:nvPr>
        </p:nvSpPr>
        <p:spPr>
          <a:xfrm>
            <a:off x="2858760" y="6578280"/>
            <a:ext cx="289548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353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535353"/>
                </a:solidFill>
                <a:latin typeface="Times New Roman"/>
              </a:rPr>
              <a:t>Copyright Pearson Prentice Hal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Num" idx="6"/>
          </p:nvPr>
        </p:nvSpPr>
        <p:spPr>
          <a:xfrm>
            <a:off x="5994360" y="6188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1031"/>
          <p:cNvSpPr/>
          <p:nvPr/>
        </p:nvSpPr>
        <p:spPr>
          <a:xfrm>
            <a:off x="0" y="12193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Aft>
                <a:spcPts val="2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032"/>
          <p:cNvSpPr/>
          <p:nvPr/>
        </p:nvSpPr>
        <p:spPr>
          <a:xfrm>
            <a:off x="609480" y="638496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033"/>
          <p:cNvSpPr/>
          <p:nvPr/>
        </p:nvSpPr>
        <p:spPr>
          <a:xfrm>
            <a:off x="0" y="12193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034"/>
          <p:cNvSpPr/>
          <p:nvPr/>
        </p:nvSpPr>
        <p:spPr>
          <a:xfrm>
            <a:off x="8213400" y="6448320"/>
            <a:ext cx="91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End Show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5">
            <a:hlinkClick r:id="" action="ppaction://hlinkshowjump?jump=endshow"/>
          </p:cNvPr>
          <p:cNvSpPr/>
          <p:nvPr/>
        </p:nvSpPr>
        <p:spPr>
          <a:xfrm>
            <a:off x="8053560" y="6346800"/>
            <a:ext cx="11476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036" descr="logo_ph"/>
          <p:cNvPicPr/>
          <p:nvPr/>
        </p:nvPicPr>
        <p:blipFill>
          <a:blip r:embed="rId4"/>
          <a:stretch/>
        </p:blipFill>
        <p:spPr>
          <a:xfrm>
            <a:off x="162000" y="6267600"/>
            <a:ext cx="588960" cy="44604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4"/>
          <p:cNvSpPr>
            <a:spLocks noGrp="1"/>
          </p:cNvSpPr>
          <p:nvPr>
            <p:ph type="title"/>
          </p:nvPr>
        </p:nvSpPr>
        <p:spPr>
          <a:xfrm>
            <a:off x="1827360" y="-360"/>
            <a:ext cx="637848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a50000"/>
              </a:solidFill>
              <a:latin typeface="Arial"/>
            </a:endParaRPr>
          </a:p>
        </p:txBody>
      </p:sp>
      <p:sp>
        <p:nvSpPr>
          <p:cNvPr id="61" name="Rectangle 1040"/>
          <p:cNvSpPr/>
          <p:nvPr/>
        </p:nvSpPr>
        <p:spPr>
          <a:xfrm>
            <a:off x="6816600" y="5967360"/>
            <a:ext cx="228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lide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15D55-B714-4D2F-A274-C44E77748DA5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of 3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0" descr="outine copy"/>
          <p:cNvPicPr/>
          <p:nvPr/>
        </p:nvPicPr>
        <p:blipFill>
          <a:blip r:embed="rId2"/>
          <a:stretch/>
        </p:blipFill>
        <p:spPr>
          <a:xfrm>
            <a:off x="0" y="-144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3" descr="red button"/>
          <p:cNvPicPr/>
          <p:nvPr/>
        </p:nvPicPr>
        <p:blipFill>
          <a:blip r:embed="rId3"/>
          <a:stretch/>
        </p:blipFill>
        <p:spPr>
          <a:xfrm>
            <a:off x="8048520" y="6399360"/>
            <a:ext cx="1143000" cy="40608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body"/>
          </p:nvPr>
        </p:nvSpPr>
        <p:spPr>
          <a:xfrm>
            <a:off x="272880" y="1095480"/>
            <a:ext cx="887112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1000"/>
          </a:bodyPr>
          <a:p>
            <a:pPr marL="174960" indent="0">
              <a:spcBef>
                <a:spcPts val="4000"/>
              </a:spcBef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  <a:p>
            <a:pPr lvl="1" marL="174960" indent="-174960">
              <a:spcBef>
                <a:spcPts val="4000"/>
              </a:spcBef>
              <a:spcAft>
                <a:spcPts val="2999"/>
              </a:spcAft>
              <a:buClr>
                <a:srgbClr val="0064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  <a:p>
            <a:pPr lvl="2" marL="174960" indent="-174960">
              <a:spcBef>
                <a:spcPts val="4000"/>
              </a:spcBef>
              <a:spcAft>
                <a:spcPts val="2999"/>
              </a:spcAft>
              <a:buClr>
                <a:srgbClr val="000000"/>
              </a:buClr>
              <a:buSzPct val="125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  <a:p>
            <a:pPr lvl="3" marL="174960" indent="-174960">
              <a:spcBef>
                <a:spcPts val="4000"/>
              </a:spcBef>
              <a:spcAft>
                <a:spcPts val="2999"/>
              </a:spcAft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  <a:p>
            <a:pPr lvl="4" marL="174960" indent="-174960">
              <a:spcBef>
                <a:spcPts val="4000"/>
              </a:spcBef>
              <a:spcAft>
                <a:spcPts val="2999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  <a:p>
            <a:pPr lvl="5" marL="174960" indent="-174960">
              <a:spcBef>
                <a:spcPts val="4000"/>
              </a:spcBef>
              <a:spcAft>
                <a:spcPts val="2999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  <a:p>
            <a:pPr lvl="6" marL="174960" indent="-174960">
              <a:spcBef>
                <a:spcPts val="4000"/>
              </a:spcBef>
              <a:spcAft>
                <a:spcPts val="2999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914400" y="6278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8"/>
          </p:nvPr>
        </p:nvSpPr>
        <p:spPr>
          <a:xfrm>
            <a:off x="2858760" y="6578280"/>
            <a:ext cx="289548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353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535353"/>
                </a:solidFill>
                <a:latin typeface="Times New Roman"/>
              </a:rPr>
              <a:t>Copyright Pearson Prentice Hal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9"/>
          </p:nvPr>
        </p:nvSpPr>
        <p:spPr>
          <a:xfrm>
            <a:off x="5994360" y="6188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9"/>
          <p:cNvSpPr/>
          <p:nvPr/>
        </p:nvSpPr>
        <p:spPr>
          <a:xfrm>
            <a:off x="0" y="12193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000"/>
              </a:spcBef>
              <a:spcAft>
                <a:spcPts val="29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1"/>
          <p:cNvSpPr/>
          <p:nvPr/>
        </p:nvSpPr>
        <p:spPr>
          <a:xfrm>
            <a:off x="609480" y="638496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2"/>
          <p:cNvSpPr/>
          <p:nvPr/>
        </p:nvSpPr>
        <p:spPr>
          <a:xfrm>
            <a:off x="0" y="12193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4"/>
          <p:cNvSpPr/>
          <p:nvPr/>
        </p:nvSpPr>
        <p:spPr>
          <a:xfrm>
            <a:off x="8213400" y="6448320"/>
            <a:ext cx="91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End Show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5">
            <a:hlinkClick r:id="" action="ppaction://hlinkshowjump?jump=endshow"/>
          </p:cNvPr>
          <p:cNvSpPr/>
          <p:nvPr/>
        </p:nvSpPr>
        <p:spPr>
          <a:xfrm>
            <a:off x="8053560" y="6346800"/>
            <a:ext cx="11476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6"/>
          <p:cNvSpPr/>
          <p:nvPr/>
        </p:nvSpPr>
        <p:spPr>
          <a:xfrm>
            <a:off x="1777320" y="0"/>
            <a:ext cx="278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23-5 Transport in Plan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7" descr="arrow"/>
          <p:cNvPicPr/>
          <p:nvPr/>
        </p:nvPicPr>
        <p:blipFill>
          <a:blip r:embed="rId4"/>
          <a:stretch/>
        </p:blipFill>
        <p:spPr>
          <a:xfrm>
            <a:off x="4637160" y="101520"/>
            <a:ext cx="317520" cy="1904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8" descr="key"/>
          <p:cNvPicPr/>
          <p:nvPr/>
        </p:nvPicPr>
        <p:blipFill>
          <a:blip r:embed="rId5"/>
          <a:stretch/>
        </p:blipFill>
        <p:spPr>
          <a:xfrm>
            <a:off x="635040" y="2397240"/>
            <a:ext cx="671400" cy="43344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5"/>
          <p:cNvSpPr>
            <a:spLocks noGrp="1"/>
          </p:cNvSpPr>
          <p:nvPr>
            <p:ph type="title"/>
          </p:nvPr>
        </p:nvSpPr>
        <p:spPr>
          <a:xfrm>
            <a:off x="4938840" y="0"/>
            <a:ext cx="4076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000080"/>
              </a:solidFill>
              <a:latin typeface="Arial"/>
            </a:endParaRPr>
          </a:p>
        </p:txBody>
      </p:sp>
      <p:pic>
        <p:nvPicPr>
          <p:cNvPr id="113" name="Picture 21" descr="logo_ph"/>
          <p:cNvPicPr/>
          <p:nvPr/>
        </p:nvPicPr>
        <p:blipFill>
          <a:blip r:embed="rId6"/>
          <a:stretch/>
        </p:blipFill>
        <p:spPr>
          <a:xfrm>
            <a:off x="162000" y="6267600"/>
            <a:ext cx="588960" cy="446040"/>
          </a:xfrm>
          <a:prstGeom prst="rect">
            <a:avLst/>
          </a:prstGeom>
          <a:ln w="0">
            <a:noFill/>
          </a:ln>
        </p:spPr>
      </p:pic>
      <p:sp>
        <p:nvSpPr>
          <p:cNvPr id="114" name="Rectangle 23"/>
          <p:cNvSpPr/>
          <p:nvPr/>
        </p:nvSpPr>
        <p:spPr>
          <a:xfrm>
            <a:off x="6816600" y="5967360"/>
            <a:ext cx="228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lide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680B9-9D97-415E-A236-2CF29D409C34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of 3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8" descr="outine copy"/>
          <p:cNvPicPr/>
          <p:nvPr/>
        </p:nvPicPr>
        <p:blipFill>
          <a:blip r:embed="rId2"/>
          <a:stretch/>
        </p:blipFill>
        <p:spPr>
          <a:xfrm>
            <a:off x="0" y="-144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3" descr="red button"/>
          <p:cNvPicPr/>
          <p:nvPr/>
        </p:nvPicPr>
        <p:blipFill>
          <a:blip r:embed="rId3"/>
          <a:stretch/>
        </p:blipFill>
        <p:spPr>
          <a:xfrm>
            <a:off x="8048520" y="6399360"/>
            <a:ext cx="1143000" cy="40608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body"/>
          </p:nvPr>
        </p:nvSpPr>
        <p:spPr>
          <a:xfrm>
            <a:off x="272880" y="1095480"/>
            <a:ext cx="887112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1000"/>
          </a:bodyPr>
          <a:p>
            <a:pPr marL="174960" indent="0">
              <a:spcBef>
                <a:spcPts val="4000"/>
              </a:spcBef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  <a:p>
            <a:pPr lvl="1" marL="174960" indent="-174960">
              <a:spcBef>
                <a:spcPts val="4000"/>
              </a:spcBef>
              <a:spcAft>
                <a:spcPts val="2999"/>
              </a:spcAft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  <a:p>
            <a:pPr lvl="2" marL="174960" indent="-174960">
              <a:spcBef>
                <a:spcPts val="4000"/>
              </a:spcBef>
              <a:spcAft>
                <a:spcPts val="2999"/>
              </a:spcAft>
              <a:buClr>
                <a:srgbClr val="000000"/>
              </a:buClr>
              <a:buSzPct val="125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  <a:p>
            <a:pPr lvl="3" marL="174960" indent="-174960">
              <a:spcBef>
                <a:spcPts val="4000"/>
              </a:spcBef>
              <a:spcAft>
                <a:spcPts val="2999"/>
              </a:spcAft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  <a:p>
            <a:pPr lvl="4" marL="174960" indent="-174960">
              <a:spcBef>
                <a:spcPts val="4000"/>
              </a:spcBef>
              <a:spcAft>
                <a:spcPts val="2999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  <a:p>
            <a:pPr lvl="5" marL="174960" indent="-174960">
              <a:spcBef>
                <a:spcPts val="4000"/>
              </a:spcBef>
              <a:spcAft>
                <a:spcPts val="2999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  <a:p>
            <a:pPr lvl="6" marL="174960" indent="-174960">
              <a:spcBef>
                <a:spcPts val="4000"/>
              </a:spcBef>
              <a:spcAft>
                <a:spcPts val="2999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dt" idx="10"/>
          </p:nvPr>
        </p:nvSpPr>
        <p:spPr>
          <a:xfrm>
            <a:off x="914400" y="6278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ftr" idx="11"/>
          </p:nvPr>
        </p:nvSpPr>
        <p:spPr>
          <a:xfrm>
            <a:off x="2858760" y="6578280"/>
            <a:ext cx="289548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353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535353"/>
                </a:solidFill>
                <a:latin typeface="Times New Roman"/>
              </a:rPr>
              <a:t>Copyright Pearson Prentice Hal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sldNum" idx="12"/>
          </p:nvPr>
        </p:nvSpPr>
        <p:spPr>
          <a:xfrm>
            <a:off x="5994360" y="6188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9"/>
          <p:cNvSpPr/>
          <p:nvPr/>
        </p:nvSpPr>
        <p:spPr>
          <a:xfrm>
            <a:off x="0" y="12193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000"/>
              </a:spcBef>
              <a:spcAft>
                <a:spcPts val="29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11"/>
          <p:cNvSpPr/>
          <p:nvPr/>
        </p:nvSpPr>
        <p:spPr>
          <a:xfrm>
            <a:off x="609480" y="638496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12"/>
          <p:cNvSpPr/>
          <p:nvPr/>
        </p:nvSpPr>
        <p:spPr>
          <a:xfrm>
            <a:off x="0" y="12193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4"/>
          <p:cNvSpPr/>
          <p:nvPr/>
        </p:nvSpPr>
        <p:spPr>
          <a:xfrm>
            <a:off x="8213400" y="6448320"/>
            <a:ext cx="91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End Show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5">
            <a:hlinkClick r:id="" action="ppaction://hlinkshowjump?jump=endshow"/>
          </p:cNvPr>
          <p:cNvSpPr/>
          <p:nvPr/>
        </p:nvSpPr>
        <p:spPr>
          <a:xfrm>
            <a:off x="8053560" y="6346800"/>
            <a:ext cx="11476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16"/>
          <p:cNvSpPr/>
          <p:nvPr/>
        </p:nvSpPr>
        <p:spPr>
          <a:xfrm>
            <a:off x="1777320" y="0"/>
            <a:ext cx="278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23-5 Transport in Plan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17" descr="arrow"/>
          <p:cNvPicPr/>
          <p:nvPr/>
        </p:nvPicPr>
        <p:blipFill>
          <a:blip r:embed="rId4"/>
          <a:stretch/>
        </p:blipFill>
        <p:spPr>
          <a:xfrm>
            <a:off x="4633920" y="101520"/>
            <a:ext cx="317520" cy="19044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5"/>
          <p:cNvSpPr>
            <a:spLocks noGrp="1"/>
          </p:cNvSpPr>
          <p:nvPr>
            <p:ph type="title"/>
          </p:nvPr>
        </p:nvSpPr>
        <p:spPr>
          <a:xfrm>
            <a:off x="4935600" y="0"/>
            <a:ext cx="4076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000080"/>
              </a:solidFill>
              <a:latin typeface="Arial"/>
            </a:endParaRPr>
          </a:p>
        </p:txBody>
      </p:sp>
      <p:pic>
        <p:nvPicPr>
          <p:cNvPr id="165" name="Picture 29" descr="logo_ph"/>
          <p:cNvPicPr/>
          <p:nvPr/>
        </p:nvPicPr>
        <p:blipFill>
          <a:blip r:embed="rId5"/>
          <a:stretch/>
        </p:blipFill>
        <p:spPr>
          <a:xfrm>
            <a:off x="162000" y="6267600"/>
            <a:ext cx="588960" cy="44604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32"/>
          <p:cNvSpPr/>
          <p:nvPr/>
        </p:nvSpPr>
        <p:spPr>
          <a:xfrm>
            <a:off x="6816600" y="5967360"/>
            <a:ext cx="228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lide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D9A37-E340-43FE-853A-6085AC369D5A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of 3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33" descr="key"/>
          <p:cNvPicPr/>
          <p:nvPr/>
        </p:nvPicPr>
        <p:blipFill>
          <a:blip r:embed="rId6"/>
          <a:stretch/>
        </p:blipFill>
        <p:spPr>
          <a:xfrm>
            <a:off x="635040" y="2397240"/>
            <a:ext cx="671400" cy="43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19" descr="outine copy"/>
          <p:cNvPicPr/>
          <p:nvPr/>
        </p:nvPicPr>
        <p:blipFill>
          <a:blip r:embed="rId2"/>
          <a:stretch/>
        </p:blipFill>
        <p:spPr>
          <a:xfrm>
            <a:off x="0" y="-144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3" descr="red button"/>
          <p:cNvPicPr/>
          <p:nvPr/>
        </p:nvPicPr>
        <p:blipFill>
          <a:blip r:embed="rId3"/>
          <a:stretch/>
        </p:blipFill>
        <p:spPr>
          <a:xfrm>
            <a:off x="8048520" y="6399360"/>
            <a:ext cx="1143000" cy="40608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935600" y="0"/>
            <a:ext cx="4076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72880" y="1095120"/>
            <a:ext cx="8547120" cy="48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  <a:p>
            <a:pPr lvl="1" marL="329040" indent="-329040">
              <a:spcAft>
                <a:spcPts val="2001"/>
              </a:spcAft>
              <a:buClr>
                <a:srgbClr val="0064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  <a:p>
            <a:pPr lvl="2" marL="329040" indent="-329040">
              <a:spcAft>
                <a:spcPts val="20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  <a:p>
            <a:pPr lvl="3" marL="329040" indent="-329040">
              <a:spcAft>
                <a:spcPts val="2001"/>
              </a:spcAft>
              <a:buClr>
                <a:srgbClr val="000000"/>
              </a:buClr>
              <a:buSzPct val="125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  <a:p>
            <a:pPr lvl="4" marL="329040" indent="-329040">
              <a:spcAft>
                <a:spcPts val="2001"/>
              </a:spcAft>
              <a:buClr>
                <a:srgbClr val="000000"/>
              </a:buClr>
              <a:buSzPct val="125000"/>
              <a:buFont typeface="Wingdings" charset="2"/>
              <a:buChar char="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  <a:p>
            <a:pPr lvl="5" marL="329040" indent="-329040">
              <a:spcAft>
                <a:spcPts val="2001"/>
              </a:spcAft>
              <a:buClr>
                <a:srgbClr val="000000"/>
              </a:buClr>
              <a:buSzPct val="125000"/>
              <a:buFont typeface="Wingdings" charset="2"/>
              <a:buChar char="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  <a:p>
            <a:pPr lvl="6" marL="329040" indent="-329040">
              <a:spcAft>
                <a:spcPts val="2001"/>
              </a:spcAft>
              <a:buClr>
                <a:srgbClr val="000000"/>
              </a:buClr>
              <a:buSzPct val="125000"/>
              <a:buFont typeface="Wingdings" charset="2"/>
              <a:buChar char="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dt" idx="13"/>
          </p:nvPr>
        </p:nvSpPr>
        <p:spPr>
          <a:xfrm>
            <a:off x="914400" y="6278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ftr" idx="14"/>
          </p:nvPr>
        </p:nvSpPr>
        <p:spPr>
          <a:xfrm>
            <a:off x="2858760" y="6578280"/>
            <a:ext cx="289548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353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535353"/>
                </a:solidFill>
                <a:latin typeface="Times New Roman"/>
              </a:rPr>
              <a:t>Copyright Pearson Prentice Hal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 type="sldNum" idx="15"/>
          </p:nvPr>
        </p:nvSpPr>
        <p:spPr>
          <a:xfrm>
            <a:off x="5994360" y="6188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0" y="12193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Aft>
                <a:spcPts val="2001"/>
              </a:spcAft>
              <a:tabLst>
                <a:tab algn="l" pos="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11"/>
          <p:cNvSpPr/>
          <p:nvPr/>
        </p:nvSpPr>
        <p:spPr>
          <a:xfrm>
            <a:off x="609480" y="638496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12"/>
          <p:cNvSpPr/>
          <p:nvPr/>
        </p:nvSpPr>
        <p:spPr>
          <a:xfrm>
            <a:off x="0" y="12193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14"/>
          <p:cNvSpPr/>
          <p:nvPr/>
        </p:nvSpPr>
        <p:spPr>
          <a:xfrm>
            <a:off x="8213400" y="6448320"/>
            <a:ext cx="91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End Show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15">
            <a:hlinkClick r:id="" action="ppaction://hlinkshowjump?jump=endshow"/>
          </p:cNvPr>
          <p:cNvSpPr/>
          <p:nvPr/>
        </p:nvSpPr>
        <p:spPr>
          <a:xfrm>
            <a:off x="8053560" y="6346800"/>
            <a:ext cx="11476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16"/>
          <p:cNvSpPr/>
          <p:nvPr/>
        </p:nvSpPr>
        <p:spPr>
          <a:xfrm>
            <a:off x="1777320" y="0"/>
            <a:ext cx="278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23-5 Transport in Plan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17" descr="arrow"/>
          <p:cNvPicPr/>
          <p:nvPr/>
        </p:nvPicPr>
        <p:blipFill>
          <a:blip r:embed="rId4"/>
          <a:stretch/>
        </p:blipFill>
        <p:spPr>
          <a:xfrm>
            <a:off x="4633920" y="101520"/>
            <a:ext cx="317520" cy="19044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20" descr="logo_ph"/>
          <p:cNvPicPr/>
          <p:nvPr/>
        </p:nvPicPr>
        <p:blipFill>
          <a:blip r:embed="rId5"/>
          <a:stretch/>
        </p:blipFill>
        <p:spPr>
          <a:xfrm>
            <a:off x="162000" y="6267600"/>
            <a:ext cx="588960" cy="446040"/>
          </a:xfrm>
          <a:prstGeom prst="rect">
            <a:avLst/>
          </a:prstGeom>
          <a:ln w="0">
            <a:noFill/>
          </a:ln>
        </p:spPr>
      </p:pic>
      <p:sp>
        <p:nvSpPr>
          <p:cNvPr id="219" name="Rectangle 22"/>
          <p:cNvSpPr/>
          <p:nvPr/>
        </p:nvSpPr>
        <p:spPr>
          <a:xfrm>
            <a:off x="6816600" y="5967360"/>
            <a:ext cx="228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lide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987B2-4B92-44E8-BCBF-A803E52F707A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of 3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2" descr="outine copy"/>
          <p:cNvPicPr/>
          <p:nvPr/>
        </p:nvPicPr>
        <p:blipFill>
          <a:blip r:embed="rId2"/>
          <a:stretch/>
        </p:blipFill>
        <p:spPr>
          <a:xfrm>
            <a:off x="0" y="-144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3" descr="red button"/>
          <p:cNvPicPr/>
          <p:nvPr/>
        </p:nvPicPr>
        <p:blipFill>
          <a:blip r:embed="rId3"/>
          <a:stretch/>
        </p:blipFill>
        <p:spPr>
          <a:xfrm>
            <a:off x="8048520" y="6399360"/>
            <a:ext cx="1143000" cy="406080"/>
          </a:xfrm>
          <a:prstGeom prst="rect">
            <a:avLst/>
          </a:prstGeom>
          <a:ln w="0">
            <a:noFill/>
          </a:ln>
        </p:spPr>
      </p:pic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935600" y="0"/>
            <a:ext cx="4076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272520" y="1095120"/>
            <a:ext cx="8642520" cy="48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Aft>
                <a:spcPts val="1749"/>
              </a:spcAft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Aft>
                <a:spcPts val="1749"/>
              </a:spcAft>
              <a:buClr>
                <a:srgbClr val="000000"/>
              </a:buClr>
              <a:buSzPct val="125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Aft>
                <a:spcPts val="1749"/>
              </a:spcAft>
              <a:buClr>
                <a:srgbClr val="000000"/>
              </a:buClr>
              <a:buSzPct val="125000"/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Aft>
                <a:spcPts val="1749"/>
              </a:spcAft>
              <a:buClr>
                <a:srgbClr val="000000"/>
              </a:buClr>
              <a:buSzPct val="125000"/>
              <a:buFont typeface="Wingdings" charset="2"/>
              <a:buChar char="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Aft>
                <a:spcPts val="1749"/>
              </a:spcAft>
              <a:buClr>
                <a:srgbClr val="000000"/>
              </a:buClr>
              <a:buSzPct val="125000"/>
              <a:buFont typeface="Wingdings" charset="2"/>
              <a:buChar char="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Aft>
                <a:spcPts val="1749"/>
              </a:spcAft>
              <a:buClr>
                <a:srgbClr val="000000"/>
              </a:buClr>
              <a:buSzPct val="125000"/>
              <a:buFont typeface="Wingdings" charset="2"/>
              <a:buChar char="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 type="dt" idx="16"/>
          </p:nvPr>
        </p:nvSpPr>
        <p:spPr>
          <a:xfrm>
            <a:off x="914400" y="6278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 type="ftr" idx="17"/>
          </p:nvPr>
        </p:nvSpPr>
        <p:spPr>
          <a:xfrm>
            <a:off x="2858760" y="6578280"/>
            <a:ext cx="289548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353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535353"/>
                </a:solidFill>
                <a:latin typeface="Times New Roman"/>
              </a:rPr>
              <a:t>Copyright Pearson Prentice Hal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 type="sldNum" idx="18"/>
          </p:nvPr>
        </p:nvSpPr>
        <p:spPr>
          <a:xfrm>
            <a:off x="5994360" y="6188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Rectangle 9"/>
          <p:cNvSpPr/>
          <p:nvPr/>
        </p:nvSpPr>
        <p:spPr>
          <a:xfrm>
            <a:off x="0" y="12193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0"/>
          <p:cNvSpPr/>
          <p:nvPr/>
        </p:nvSpPr>
        <p:spPr>
          <a:xfrm>
            <a:off x="609480" y="638496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11"/>
          <p:cNvSpPr/>
          <p:nvPr/>
        </p:nvSpPr>
        <p:spPr>
          <a:xfrm>
            <a:off x="0" y="12193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13"/>
          <p:cNvSpPr/>
          <p:nvPr/>
        </p:nvSpPr>
        <p:spPr>
          <a:xfrm>
            <a:off x="8213400" y="6448320"/>
            <a:ext cx="91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End Show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14">
            <a:hlinkClick r:id="" action="ppaction://hlinkshowjump?jump=endshow"/>
          </p:cNvPr>
          <p:cNvSpPr/>
          <p:nvPr/>
        </p:nvSpPr>
        <p:spPr>
          <a:xfrm>
            <a:off x="8053560" y="6346800"/>
            <a:ext cx="11476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15"/>
          <p:cNvSpPr/>
          <p:nvPr/>
        </p:nvSpPr>
        <p:spPr>
          <a:xfrm>
            <a:off x="1777320" y="0"/>
            <a:ext cx="278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23-5 Transport in Plan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16" descr="arrow"/>
          <p:cNvPicPr/>
          <p:nvPr/>
        </p:nvPicPr>
        <p:blipFill>
          <a:blip r:embed="rId4"/>
          <a:stretch/>
        </p:blipFill>
        <p:spPr>
          <a:xfrm>
            <a:off x="4633920" y="101520"/>
            <a:ext cx="317520" cy="19044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17" descr="logo_ph"/>
          <p:cNvPicPr/>
          <p:nvPr/>
        </p:nvPicPr>
        <p:blipFill>
          <a:blip r:embed="rId5"/>
          <a:stretch/>
        </p:blipFill>
        <p:spPr>
          <a:xfrm>
            <a:off x="162000" y="6267600"/>
            <a:ext cx="588960" cy="446040"/>
          </a:xfrm>
          <a:prstGeom prst="rect">
            <a:avLst/>
          </a:prstGeom>
          <a:ln w="0">
            <a:noFill/>
          </a:ln>
        </p:spPr>
      </p:pic>
      <p:sp>
        <p:nvSpPr>
          <p:cNvPr id="271" name="Rectangle 19"/>
          <p:cNvSpPr/>
          <p:nvPr/>
        </p:nvSpPr>
        <p:spPr>
          <a:xfrm>
            <a:off x="6816600" y="5967360"/>
            <a:ext cx="228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lide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E975E-A28E-41B1-B056-94D09BE87AA8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of 3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Picture 19" descr="movie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3" descr="red button"/>
          <p:cNvPicPr/>
          <p:nvPr/>
        </p:nvPicPr>
        <p:blipFill>
          <a:blip r:embed="rId3"/>
          <a:stretch/>
        </p:blipFill>
        <p:spPr>
          <a:xfrm>
            <a:off x="8048520" y="6399360"/>
            <a:ext cx="1143000" cy="406080"/>
          </a:xfrm>
          <a:prstGeom prst="rect">
            <a:avLst/>
          </a:prstGeom>
          <a:ln w="0">
            <a:noFill/>
          </a:ln>
        </p:spPr>
      </p:pic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935600" y="0"/>
            <a:ext cx="4076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272520" y="1095120"/>
            <a:ext cx="8642520" cy="48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  <a:p>
            <a:pPr lvl="1" marL="329040" indent="-329040">
              <a:spcAft>
                <a:spcPts val="2001"/>
              </a:spcAft>
              <a:buClr>
                <a:srgbClr val="0064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  <a:p>
            <a:pPr lvl="2" marL="329040" indent="-329040">
              <a:spcAft>
                <a:spcPts val="20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  <a:p>
            <a:pPr lvl="3" marL="329040" indent="-329040">
              <a:spcAft>
                <a:spcPts val="2001"/>
              </a:spcAft>
              <a:buClr>
                <a:srgbClr val="000000"/>
              </a:buClr>
              <a:buSzPct val="125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  <a:p>
            <a:pPr lvl="4" marL="329040" indent="-329040">
              <a:spcAft>
                <a:spcPts val="2001"/>
              </a:spcAft>
              <a:buClr>
                <a:srgbClr val="000000"/>
              </a:buClr>
              <a:buSzPct val="125000"/>
              <a:buFont typeface="Wingdings" charset="2"/>
              <a:buChar char="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  <a:p>
            <a:pPr lvl="5" marL="329040" indent="-329040">
              <a:spcAft>
                <a:spcPts val="2001"/>
              </a:spcAft>
              <a:buClr>
                <a:srgbClr val="000000"/>
              </a:buClr>
              <a:buSzPct val="125000"/>
              <a:buFont typeface="Wingdings" charset="2"/>
              <a:buChar char="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  <a:p>
            <a:pPr lvl="6" marL="329040" indent="-329040">
              <a:spcAft>
                <a:spcPts val="2001"/>
              </a:spcAft>
              <a:buClr>
                <a:srgbClr val="000000"/>
              </a:buClr>
              <a:buSzPct val="125000"/>
              <a:buFont typeface="Wingdings" charset="2"/>
              <a:buChar char="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>
            <a:off x="914400" y="6278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ftr" idx="20"/>
          </p:nvPr>
        </p:nvSpPr>
        <p:spPr>
          <a:xfrm>
            <a:off x="2858760" y="6578280"/>
            <a:ext cx="289548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353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535353"/>
                </a:solidFill>
                <a:latin typeface="Times New Roman"/>
              </a:rPr>
              <a:t>Copyright Pearson Prentice Hal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sldNum" idx="21"/>
          </p:nvPr>
        </p:nvSpPr>
        <p:spPr>
          <a:xfrm>
            <a:off x="5994360" y="6188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Rectangle 9"/>
          <p:cNvSpPr/>
          <p:nvPr/>
        </p:nvSpPr>
        <p:spPr>
          <a:xfrm>
            <a:off x="0" y="12193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10"/>
          <p:cNvSpPr/>
          <p:nvPr/>
        </p:nvSpPr>
        <p:spPr>
          <a:xfrm>
            <a:off x="609480" y="638496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11"/>
          <p:cNvSpPr/>
          <p:nvPr/>
        </p:nvSpPr>
        <p:spPr>
          <a:xfrm>
            <a:off x="0" y="12193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13"/>
          <p:cNvSpPr/>
          <p:nvPr/>
        </p:nvSpPr>
        <p:spPr>
          <a:xfrm>
            <a:off x="8213400" y="6448320"/>
            <a:ext cx="91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End Show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14">
            <a:hlinkClick r:id="" action="ppaction://hlinkshowjump?jump=endshow"/>
          </p:cNvPr>
          <p:cNvSpPr/>
          <p:nvPr/>
        </p:nvSpPr>
        <p:spPr>
          <a:xfrm>
            <a:off x="8053560" y="6346800"/>
            <a:ext cx="11476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15"/>
          <p:cNvSpPr/>
          <p:nvPr/>
        </p:nvSpPr>
        <p:spPr>
          <a:xfrm>
            <a:off x="1777320" y="0"/>
            <a:ext cx="278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23-5 Transport in Plan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Picture 16" descr="arrow"/>
          <p:cNvPicPr/>
          <p:nvPr/>
        </p:nvPicPr>
        <p:blipFill>
          <a:blip r:embed="rId4"/>
          <a:stretch/>
        </p:blipFill>
        <p:spPr>
          <a:xfrm>
            <a:off x="4633920" y="101520"/>
            <a:ext cx="317520" cy="19044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17" descr="logo_ph"/>
          <p:cNvPicPr/>
          <p:nvPr/>
        </p:nvPicPr>
        <p:blipFill>
          <a:blip r:embed="rId5"/>
          <a:stretch/>
        </p:blipFill>
        <p:spPr>
          <a:xfrm>
            <a:off x="162000" y="6267600"/>
            <a:ext cx="588960" cy="446040"/>
          </a:xfrm>
          <a:prstGeom prst="rect">
            <a:avLst/>
          </a:prstGeom>
          <a:ln w="0">
            <a:noFill/>
          </a:ln>
        </p:spPr>
      </p:pic>
      <p:sp>
        <p:nvSpPr>
          <p:cNvPr id="323" name="Rectangle 21"/>
          <p:cNvSpPr/>
          <p:nvPr/>
        </p:nvSpPr>
        <p:spPr>
          <a:xfrm>
            <a:off x="6816600" y="5967360"/>
            <a:ext cx="228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lide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24951-B818-40D3-AC0F-3091C9DBBDFA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of 3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0" name="Group 2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361" name="Rectangle 3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Rectangle 4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Line 5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 type="dt" idx="22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 type="ftr" idx="23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 type="sldNum" idx="24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0E826-7C1B-444B-AAC4-DDDA86CAC6F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Picture 2" descr="outine copy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3" descr="red button"/>
          <p:cNvPicPr/>
          <p:nvPr/>
        </p:nvPicPr>
        <p:blipFill>
          <a:blip r:embed="rId3"/>
          <a:stretch/>
        </p:blipFill>
        <p:spPr>
          <a:xfrm>
            <a:off x="8048520" y="6399360"/>
            <a:ext cx="1143000" cy="406080"/>
          </a:xfrm>
          <a:prstGeom prst="rect">
            <a:avLst/>
          </a:prstGeom>
          <a:ln w="0">
            <a:noFill/>
          </a:ln>
        </p:spPr>
      </p:pic>
      <p:sp>
        <p:nvSpPr>
          <p:cNvPr id="407" name="PlaceHolder 1"/>
          <p:cNvSpPr>
            <a:spLocks noGrp="1"/>
          </p:cNvSpPr>
          <p:nvPr>
            <p:ph type="body"/>
          </p:nvPr>
        </p:nvSpPr>
        <p:spPr>
          <a:xfrm>
            <a:off x="272880" y="1095480"/>
            <a:ext cx="887112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spcAft>
                <a:spcPts val="799"/>
              </a:spcAft>
              <a:buClr>
                <a:srgbClr val="0064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spcAft>
                <a:spcPts val="799"/>
              </a:spcAft>
              <a:buClr>
                <a:srgbClr val="000000"/>
              </a:buClr>
              <a:buSzPct val="125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dt" idx="25"/>
          </p:nvPr>
        </p:nvSpPr>
        <p:spPr>
          <a:xfrm>
            <a:off x="914400" y="6278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 type="ftr" idx="26"/>
          </p:nvPr>
        </p:nvSpPr>
        <p:spPr>
          <a:xfrm>
            <a:off x="2858760" y="6578280"/>
            <a:ext cx="289548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353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535353"/>
                </a:solidFill>
                <a:latin typeface="Times New Roman"/>
              </a:rPr>
              <a:t>Copyright Pearson Prentice Hal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 type="sldNum" idx="27"/>
          </p:nvPr>
        </p:nvSpPr>
        <p:spPr>
          <a:xfrm>
            <a:off x="5994360" y="6188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Rectangle 8"/>
          <p:cNvSpPr/>
          <p:nvPr/>
        </p:nvSpPr>
        <p:spPr>
          <a:xfrm>
            <a:off x="0" y="12193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spcAft>
                <a:spcPts val="7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9"/>
          <p:cNvSpPr/>
          <p:nvPr/>
        </p:nvSpPr>
        <p:spPr>
          <a:xfrm>
            <a:off x="609480" y="638496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10"/>
          <p:cNvSpPr/>
          <p:nvPr/>
        </p:nvSpPr>
        <p:spPr>
          <a:xfrm>
            <a:off x="0" y="12193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11"/>
          <p:cNvSpPr/>
          <p:nvPr/>
        </p:nvSpPr>
        <p:spPr>
          <a:xfrm>
            <a:off x="8213400" y="6448320"/>
            <a:ext cx="91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End Show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Rectangle 12">
            <a:hlinkClick r:id="" action="ppaction://hlinkshowjump?jump=endshow"/>
          </p:cNvPr>
          <p:cNvSpPr/>
          <p:nvPr/>
        </p:nvSpPr>
        <p:spPr>
          <a:xfrm>
            <a:off x="8053560" y="6346800"/>
            <a:ext cx="11476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Rectangle 13"/>
          <p:cNvSpPr/>
          <p:nvPr/>
        </p:nvSpPr>
        <p:spPr>
          <a:xfrm>
            <a:off x="1777320" y="0"/>
            <a:ext cx="278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23-5 Transport in Plan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Picture 14" descr="arrow"/>
          <p:cNvPicPr/>
          <p:nvPr/>
        </p:nvPicPr>
        <p:blipFill>
          <a:blip r:embed="rId4"/>
          <a:stretch/>
        </p:blipFill>
        <p:spPr>
          <a:xfrm>
            <a:off x="4637160" y="101520"/>
            <a:ext cx="317520" cy="19044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15" descr="key"/>
          <p:cNvPicPr/>
          <p:nvPr/>
        </p:nvPicPr>
        <p:blipFill>
          <a:blip r:embed="rId5"/>
          <a:stretch/>
        </p:blipFill>
        <p:spPr>
          <a:xfrm>
            <a:off x="635040" y="2473200"/>
            <a:ext cx="671400" cy="433440"/>
          </a:xfrm>
          <a:prstGeom prst="rect">
            <a:avLst/>
          </a:prstGeom>
          <a:ln w="0">
            <a:noFill/>
          </a:ln>
        </p:spPr>
      </p:pic>
      <p:sp>
        <p:nvSpPr>
          <p:cNvPr id="419" name="PlaceHolder 5"/>
          <p:cNvSpPr>
            <a:spLocks noGrp="1"/>
          </p:cNvSpPr>
          <p:nvPr>
            <p:ph type="title"/>
          </p:nvPr>
        </p:nvSpPr>
        <p:spPr>
          <a:xfrm>
            <a:off x="4941360" y="0"/>
            <a:ext cx="4077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000080"/>
              </a:solidFill>
              <a:latin typeface="Arial"/>
            </a:endParaRPr>
          </a:p>
        </p:txBody>
      </p:sp>
      <p:pic>
        <p:nvPicPr>
          <p:cNvPr id="420" name="Picture 17" descr="logo_ph"/>
          <p:cNvPicPr/>
          <p:nvPr/>
        </p:nvPicPr>
        <p:blipFill>
          <a:blip r:embed="rId6"/>
          <a:stretch/>
        </p:blipFill>
        <p:spPr>
          <a:xfrm>
            <a:off x="162000" y="6267600"/>
            <a:ext cx="588960" cy="446040"/>
          </a:xfrm>
          <a:prstGeom prst="rect">
            <a:avLst/>
          </a:prstGeom>
          <a:ln w="0">
            <a:noFill/>
          </a:ln>
        </p:spPr>
      </p:pic>
      <p:sp>
        <p:nvSpPr>
          <p:cNvPr id="421" name="Rectangle 18"/>
          <p:cNvSpPr/>
          <p:nvPr/>
        </p:nvSpPr>
        <p:spPr>
          <a:xfrm>
            <a:off x="6816600" y="5967360"/>
            <a:ext cx="228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lide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C6E3C-9CE2-4A69-B9B5-DE72C43766FA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of 3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2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2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2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2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2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<Relationship Id="rId2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Footer Placeholder 4"/>
          <p:cNvSpPr/>
          <p:nvPr/>
        </p:nvSpPr>
        <p:spPr>
          <a:xfrm>
            <a:off x="2859120" y="6578640"/>
            <a:ext cx="28954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535353"/>
                </a:solidFill>
                <a:latin typeface="Arial"/>
              </a:rPr>
              <a:t>Copyright Pearson Prentice Hall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1827360" y="-360"/>
            <a:ext cx="6378480" cy="107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00"/>
                </a:solidFill>
                <a:latin typeface="Arial"/>
              </a:rPr>
              <a:t>23-5 Transport in Plants</a:t>
            </a:r>
            <a:endParaRPr b="1" lang="en-US" sz="3600" spc="-1" strike="noStrike">
              <a:solidFill>
                <a:srgbClr val="a500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2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00"/>
              </a:solidFill>
              <a:latin typeface="Arial"/>
            </a:endParaRPr>
          </a:p>
        </p:txBody>
      </p:sp>
      <p:pic>
        <p:nvPicPr>
          <p:cNvPr id="619" name="Picture 13" descr="23_05_12"/>
          <p:cNvPicPr/>
          <p:nvPr/>
        </p:nvPicPr>
        <p:blipFill>
          <a:blip r:embed="rId1"/>
          <a:stretch/>
        </p:blipFill>
        <p:spPr>
          <a:xfrm>
            <a:off x="2660760" y="663480"/>
            <a:ext cx="3774960" cy="598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Footer Placeholder 4"/>
          <p:cNvSpPr/>
          <p:nvPr/>
        </p:nvSpPr>
        <p:spPr>
          <a:xfrm>
            <a:off x="2859120" y="6578640"/>
            <a:ext cx="28954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535353"/>
                </a:solidFill>
                <a:latin typeface="Arial"/>
              </a:rPr>
              <a:t>Copyright Pearson Prentice Hall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935600" y="0"/>
            <a:ext cx="40766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Arial"/>
              </a:rPr>
              <a:t>Water Pressure</a:t>
            </a:r>
            <a:endParaRPr b="1" lang="en-US" sz="1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272880" y="1095120"/>
            <a:ext cx="4299120" cy="48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  <a:p>
            <a:pPr lvl="2" marL="399960" indent="0">
              <a:spcBef>
                <a:spcPts val="1225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water is lost through transpiration, osmotic pressure moves water out of the vascular tissue of the leaf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pic>
        <p:nvPicPr>
          <p:cNvPr id="649" name="Picture 5" descr="23_05_11&amp;12slide"/>
          <p:cNvPicPr/>
          <p:nvPr/>
        </p:nvPicPr>
        <p:blipFill>
          <a:blip r:embed="rId1"/>
          <a:stretch/>
        </p:blipFill>
        <p:spPr>
          <a:xfrm>
            <a:off x="4908600" y="903240"/>
            <a:ext cx="3643200" cy="5564160"/>
          </a:xfrm>
          <a:prstGeom prst="rect">
            <a:avLst/>
          </a:prstGeom>
          <a:ln w="0">
            <a:noFill/>
          </a:ln>
        </p:spPr>
      </p:pic>
      <p:sp>
        <p:nvSpPr>
          <p:cNvPr id="650" name="Rectangle 8"/>
          <p:cNvSpPr/>
          <p:nvPr/>
        </p:nvSpPr>
        <p:spPr>
          <a:xfrm>
            <a:off x="0" y="0"/>
            <a:ext cx="1886040" cy="11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Rectangle 9"/>
          <p:cNvSpPr/>
          <p:nvPr/>
        </p:nvSpPr>
        <p:spPr>
          <a:xfrm>
            <a:off x="4881600" y="5848200"/>
            <a:ext cx="407880" cy="39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Footer Placeholder 4"/>
          <p:cNvSpPr/>
          <p:nvPr/>
        </p:nvSpPr>
        <p:spPr>
          <a:xfrm>
            <a:off x="2859120" y="6578640"/>
            <a:ext cx="28954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535353"/>
                </a:solidFill>
                <a:latin typeface="Arial"/>
              </a:rPr>
              <a:t>Copyright Pearson Prentice Hall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3" name="Picture 10" descr="23_05_12"/>
          <p:cNvPicPr/>
          <p:nvPr/>
        </p:nvPicPr>
        <p:blipFill>
          <a:blip r:embed="rId1"/>
          <a:stretch/>
        </p:blipFill>
        <p:spPr>
          <a:xfrm>
            <a:off x="4667400" y="596880"/>
            <a:ext cx="3774960" cy="5983200"/>
          </a:xfrm>
          <a:prstGeom prst="rect">
            <a:avLst/>
          </a:prstGeom>
          <a:ln w="0">
            <a:noFill/>
          </a:ln>
        </p:spPr>
      </p:pic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935600" y="0"/>
            <a:ext cx="40766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Arial"/>
              </a:rPr>
              <a:t>Water Pressure</a:t>
            </a:r>
            <a:endParaRPr b="1" lang="en-US" sz="1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272880" y="1095120"/>
            <a:ext cx="4299120" cy="48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ovement of water out of the leaf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“pulls”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ter upward through the vascular system all the way from the roo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process is known as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transpirational pul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Rectangle 11"/>
          <p:cNvSpPr/>
          <p:nvPr/>
        </p:nvSpPr>
        <p:spPr>
          <a:xfrm>
            <a:off x="4626000" y="5883120"/>
            <a:ext cx="407880" cy="39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Footer Placeholder 4"/>
          <p:cNvSpPr/>
          <p:nvPr/>
        </p:nvSpPr>
        <p:spPr>
          <a:xfrm>
            <a:off x="2859120" y="6578640"/>
            <a:ext cx="28954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535353"/>
                </a:solidFill>
                <a:latin typeface="Arial"/>
              </a:rPr>
              <a:t>Copyright Pearson Prentice Hall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935600" y="0"/>
            <a:ext cx="40766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Arial"/>
              </a:rPr>
              <a:t>Water Pressure</a:t>
            </a:r>
            <a:endParaRPr b="1" lang="en-US" sz="1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272880" y="1095120"/>
            <a:ext cx="8547120" cy="48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114480" indent="0">
              <a:lnSpc>
                <a:spcPct val="85000"/>
              </a:lnSpc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400"/>
                </a:solidFill>
                <a:latin typeface="Arial"/>
              </a:rPr>
              <a:t>Controlling Transpiration</a:t>
            </a:r>
            <a:endParaRPr b="1" lang="en-US" sz="2800" spc="-1" strike="noStrike">
              <a:solidFill>
                <a:srgbClr val="006400"/>
              </a:solidFill>
              <a:latin typeface="Arial"/>
            </a:endParaRPr>
          </a:p>
          <a:p>
            <a:pPr lvl="2" marL="287280" indent="0"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water content of the leaf is kept relatively consta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287280" indent="0"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there is a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lot of wat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water pressure in the guard cells is increased and the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tomata ope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287280" indent="0"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cess water is then lost through the open stomata by transpi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Footer Placeholder 4"/>
          <p:cNvSpPr/>
          <p:nvPr/>
        </p:nvSpPr>
        <p:spPr>
          <a:xfrm>
            <a:off x="2859120" y="6578640"/>
            <a:ext cx="28954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535353"/>
                </a:solidFill>
                <a:latin typeface="Arial"/>
              </a:rPr>
              <a:t>Copyright Pearson Prentice Hall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935600" y="0"/>
            <a:ext cx="40766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Arial"/>
              </a:rPr>
              <a:t>Water Pressure</a:t>
            </a:r>
            <a:endParaRPr b="1" lang="en-US" sz="1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272520" y="1095120"/>
            <a:ext cx="8642520" cy="48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water is scar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the opposite occu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ter pressure in the leaf decreases. The guard cells respond by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losing the stomat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reduces further water loss by limiting transpi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too much water is lost,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wilt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ccurs. When a leaf wilts, its stomata close and transpiration slows down. This helps a plant conserve wa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Footer Placeholder 4"/>
          <p:cNvSpPr/>
          <p:nvPr/>
        </p:nvSpPr>
        <p:spPr>
          <a:xfrm>
            <a:off x="2859120" y="6578640"/>
            <a:ext cx="28954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535353"/>
                </a:solidFill>
                <a:latin typeface="Arial"/>
              </a:rPr>
              <a:t>Copyright Pearson Prentice Hall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938840" y="0"/>
            <a:ext cx="40766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Arial"/>
              </a:rPr>
              <a:t>Nutrient Transport</a:t>
            </a:r>
            <a:endParaRPr b="1" lang="en-US" sz="1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272880" y="1095480"/>
            <a:ext cx="8871120" cy="46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000"/>
              </a:spcBef>
              <a:spcAft>
                <a:spcPts val="2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  <a:p>
            <a:pPr lvl="1" marL="1206360" indent="0">
              <a:spcBef>
                <a:spcPts val="3501"/>
              </a:spcBef>
              <a:spcAft>
                <a:spcPts val="876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400"/>
                </a:solidFill>
                <a:latin typeface="Arial"/>
              </a:rPr>
              <a:t>How are the products of photosynthesis transported throughout a plant?</a:t>
            </a:r>
            <a:endParaRPr b="1" lang="en-US" sz="2800" spc="-1" strike="noStrike">
              <a:solidFill>
                <a:srgbClr val="006400"/>
              </a:solidFill>
              <a:latin typeface="Arial"/>
            </a:endParaRPr>
          </a:p>
          <a:p>
            <a:pPr lvl="1" marL="1206360" indent="0">
              <a:spcBef>
                <a:spcPts val="3501"/>
              </a:spcBef>
              <a:spcAft>
                <a:spcPts val="876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4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Footer Placeholder 4"/>
          <p:cNvSpPr/>
          <p:nvPr/>
        </p:nvSpPr>
        <p:spPr>
          <a:xfrm>
            <a:off x="2859120" y="6578640"/>
            <a:ext cx="28954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535353"/>
                </a:solidFill>
                <a:latin typeface="Arial"/>
              </a:rPr>
              <a:t>Copyright Pearson Prentice Hall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935600" y="0"/>
            <a:ext cx="40766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Arial"/>
              </a:rPr>
              <a:t>Nutrient Transport</a:t>
            </a:r>
            <a:endParaRPr b="1" lang="en-US" sz="1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272880" y="1095120"/>
            <a:ext cx="8547120" cy="48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Nutrient Transport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  <a:p>
            <a:pPr lvl="2" marL="287280" indent="0"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Many plants pump sugars into their frui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287280" indent="0"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cold climates, plants pump food into their roots for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winter stora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287280" indent="0"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stored food must be moved back into the trunk and branches of the plant before growth begins again in the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pr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Footer Placeholder 4"/>
          <p:cNvSpPr/>
          <p:nvPr/>
        </p:nvSpPr>
        <p:spPr>
          <a:xfrm>
            <a:off x="2859120" y="6578640"/>
            <a:ext cx="28954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535353"/>
                </a:solidFill>
                <a:latin typeface="Arial"/>
              </a:rPr>
              <a:t>Copyright Pearson Prentice Hall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935600" y="0"/>
            <a:ext cx="40766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Arial"/>
              </a:rPr>
              <a:t>Nutrient Transport</a:t>
            </a:r>
            <a:endParaRPr b="1" lang="en-US" sz="1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272880" y="1095120"/>
            <a:ext cx="8547120" cy="48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114480" indent="0">
              <a:lnSpc>
                <a:spcPct val="85000"/>
              </a:lnSpc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400"/>
                </a:solidFill>
                <a:latin typeface="Arial"/>
              </a:rPr>
              <a:t>Movement from Source to Sink</a:t>
            </a:r>
            <a:endParaRPr b="1" lang="en-US" sz="2800" spc="-1" strike="noStrike">
              <a:solidFill>
                <a:srgbClr val="006400"/>
              </a:solidFill>
              <a:latin typeface="Arial"/>
            </a:endParaRPr>
          </a:p>
          <a:p>
            <a:pPr lvl="2" marL="287280" indent="0"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rocess of phloem transport moves sugars through a plant from a source to a sin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287280" indent="0"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our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ny cell in which sugars are produced by photosynthes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287280" indent="0"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in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ny cell where the sugars are used or stor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Footer Placeholder 4"/>
          <p:cNvSpPr/>
          <p:nvPr/>
        </p:nvSpPr>
        <p:spPr>
          <a:xfrm>
            <a:off x="2859120" y="6578640"/>
            <a:ext cx="28954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535353"/>
                </a:solidFill>
                <a:latin typeface="Arial"/>
              </a:rPr>
              <a:t>Copyright Pearson Prentice Hall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941360" y="0"/>
            <a:ext cx="40770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Arial"/>
              </a:rPr>
              <a:t>Nutrient Transport</a:t>
            </a:r>
            <a:endParaRPr b="1" lang="en-US" sz="1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272880" y="1095120"/>
            <a:ext cx="8871120" cy="668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206360" indent="0">
              <a:spcBef>
                <a:spcPts val="1749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06360" indent="0">
              <a:spcBef>
                <a:spcPts val="1749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en nutrients are pumped into or removed from the phloem system, the change in concentration causes a movement of fluid in that same direction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06360" indent="0">
              <a:spcBef>
                <a:spcPts val="1749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s a result, phloem is able to move nutrients in either direction to meet the nutritional needs of the plant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06360" indent="0">
              <a:spcBef>
                <a:spcPts val="1749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5" name="Picture 4" descr="key"/>
          <p:cNvPicPr/>
          <p:nvPr/>
        </p:nvPicPr>
        <p:blipFill>
          <a:blip r:embed="rId1"/>
          <a:stretch/>
        </p:blipFill>
        <p:spPr>
          <a:xfrm>
            <a:off x="635040" y="1862280"/>
            <a:ext cx="671400" cy="433080"/>
          </a:xfrm>
          <a:prstGeom prst="rect">
            <a:avLst/>
          </a:prstGeom>
          <a:ln w="0">
            <a:noFill/>
          </a:ln>
        </p:spPr>
      </p:pic>
      <p:sp>
        <p:nvSpPr>
          <p:cNvPr id="676" name="Rectangle 5"/>
          <p:cNvSpPr/>
          <p:nvPr/>
        </p:nvSpPr>
        <p:spPr>
          <a:xfrm>
            <a:off x="522360" y="2416320"/>
            <a:ext cx="860400" cy="566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Footer Placeholder 4"/>
          <p:cNvSpPr/>
          <p:nvPr/>
        </p:nvSpPr>
        <p:spPr>
          <a:xfrm>
            <a:off x="2859120" y="6578640"/>
            <a:ext cx="28954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535353"/>
                </a:solidFill>
                <a:latin typeface="Arial"/>
              </a:rPr>
              <a:t>Copyright Pearson Prentice Hall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935600" y="0"/>
            <a:ext cx="40766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Arial"/>
              </a:rPr>
              <a:t>Nutrient Transport</a:t>
            </a:r>
            <a:endParaRPr b="1" lang="en-US" sz="1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272520" y="1095120"/>
            <a:ext cx="8642520" cy="48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114480" indent="0">
              <a:lnSpc>
                <a:spcPct val="85000"/>
              </a:lnSpc>
              <a:spcBef>
                <a:spcPts val="876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idea that explains how phloem transport takes place is called the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ressure-flow hypothesi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Footer Placeholder 4"/>
          <p:cNvSpPr/>
          <p:nvPr/>
        </p:nvSpPr>
        <p:spPr>
          <a:xfrm>
            <a:off x="2859120" y="6578640"/>
            <a:ext cx="28954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535353"/>
                </a:solidFill>
                <a:latin typeface="Arial"/>
              </a:rPr>
              <a:t>Copyright Pearson Prentice Hall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1" name="Picture 6" descr="23_05_19-20-21slide"/>
          <p:cNvPicPr/>
          <p:nvPr/>
        </p:nvPicPr>
        <p:blipFill>
          <a:blip r:embed="rId1"/>
          <a:stretch/>
        </p:blipFill>
        <p:spPr>
          <a:xfrm>
            <a:off x="4087800" y="576360"/>
            <a:ext cx="4275000" cy="5762520"/>
          </a:xfrm>
          <a:prstGeom prst="rect">
            <a:avLst/>
          </a:prstGeom>
          <a:ln w="0">
            <a:noFill/>
          </a:ln>
        </p:spPr>
      </p:pic>
      <p:sp>
        <p:nvSpPr>
          <p:cNvPr id="682" name="Rectangle 28"/>
          <p:cNvSpPr/>
          <p:nvPr/>
        </p:nvSpPr>
        <p:spPr>
          <a:xfrm>
            <a:off x="5573880" y="838080"/>
            <a:ext cx="126180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Rectangle 29"/>
          <p:cNvSpPr/>
          <p:nvPr/>
        </p:nvSpPr>
        <p:spPr>
          <a:xfrm>
            <a:off x="5638680" y="2689200"/>
            <a:ext cx="1241640" cy="35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935600" y="0"/>
            <a:ext cx="40766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Arial"/>
              </a:rPr>
              <a:t>Nutrient Transport</a:t>
            </a:r>
            <a:endParaRPr b="1" lang="en-US" sz="1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272880" y="1095120"/>
            <a:ext cx="4299120" cy="48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gars produced during photosynthesis are pumped into the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hloem (source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Rectangle 7"/>
          <p:cNvSpPr/>
          <p:nvPr/>
        </p:nvSpPr>
        <p:spPr>
          <a:xfrm>
            <a:off x="6748560" y="534960"/>
            <a:ext cx="1663560" cy="203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Rectangle 11"/>
          <p:cNvSpPr/>
          <p:nvPr/>
        </p:nvSpPr>
        <p:spPr>
          <a:xfrm>
            <a:off x="5956200" y="952560"/>
            <a:ext cx="774720" cy="419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Rectangle 12"/>
          <p:cNvSpPr/>
          <p:nvPr/>
        </p:nvSpPr>
        <p:spPr>
          <a:xfrm>
            <a:off x="5943600" y="2692440"/>
            <a:ext cx="81288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Text Box 9"/>
          <p:cNvSpPr/>
          <p:nvPr/>
        </p:nvSpPr>
        <p:spPr>
          <a:xfrm>
            <a:off x="5587920" y="812880"/>
            <a:ext cx="181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gar molecu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Text Box 20"/>
          <p:cNvSpPr/>
          <p:nvPr/>
        </p:nvSpPr>
        <p:spPr>
          <a:xfrm>
            <a:off x="2776680" y="4762440"/>
            <a:ext cx="151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vement of wat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Text Box 21"/>
          <p:cNvSpPr/>
          <p:nvPr/>
        </p:nvSpPr>
        <p:spPr>
          <a:xfrm>
            <a:off x="2776680" y="5408640"/>
            <a:ext cx="154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vement of suga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Line 22"/>
          <p:cNvSpPr/>
          <p:nvPr/>
        </p:nvSpPr>
        <p:spPr>
          <a:xfrm>
            <a:off x="2278080" y="5092560"/>
            <a:ext cx="490680" cy="0"/>
          </a:xfrm>
          <a:prstGeom prst="line">
            <a:avLst/>
          </a:prstGeom>
          <a:ln w="76320">
            <a:solidFill>
              <a:srgbClr val="00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Line 23"/>
          <p:cNvSpPr/>
          <p:nvPr/>
        </p:nvSpPr>
        <p:spPr>
          <a:xfrm>
            <a:off x="2278080" y="5757840"/>
            <a:ext cx="49068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Rectangle 24"/>
          <p:cNvSpPr/>
          <p:nvPr/>
        </p:nvSpPr>
        <p:spPr>
          <a:xfrm>
            <a:off x="2165400" y="4605480"/>
            <a:ext cx="2133720" cy="14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Rectangle 25"/>
          <p:cNvSpPr/>
          <p:nvPr/>
        </p:nvSpPr>
        <p:spPr>
          <a:xfrm>
            <a:off x="2066760" y="4722840"/>
            <a:ext cx="2102040" cy="1393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Rectangle 26"/>
          <p:cNvSpPr/>
          <p:nvPr/>
        </p:nvSpPr>
        <p:spPr>
          <a:xfrm>
            <a:off x="4278240" y="795240"/>
            <a:ext cx="1284480" cy="12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Text Box 31"/>
          <p:cNvSpPr/>
          <p:nvPr/>
        </p:nvSpPr>
        <p:spPr>
          <a:xfrm>
            <a:off x="6654960" y="438120"/>
            <a:ext cx="101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hloem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Text Box 32"/>
          <p:cNvSpPr/>
          <p:nvPr/>
        </p:nvSpPr>
        <p:spPr>
          <a:xfrm>
            <a:off x="7607160" y="425520"/>
            <a:ext cx="101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ylem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Line 35"/>
          <p:cNvSpPr/>
          <p:nvPr/>
        </p:nvSpPr>
        <p:spPr>
          <a:xfrm>
            <a:off x="5559480" y="2176560"/>
            <a:ext cx="49032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Line 36"/>
          <p:cNvSpPr/>
          <p:nvPr/>
        </p:nvSpPr>
        <p:spPr>
          <a:xfrm>
            <a:off x="5559480" y="2408400"/>
            <a:ext cx="49032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Rectangle 33"/>
          <p:cNvSpPr/>
          <p:nvPr/>
        </p:nvSpPr>
        <p:spPr>
          <a:xfrm>
            <a:off x="5322960" y="1787400"/>
            <a:ext cx="730080" cy="1087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Line 34"/>
          <p:cNvSpPr/>
          <p:nvPr/>
        </p:nvSpPr>
        <p:spPr>
          <a:xfrm flipV="1">
            <a:off x="5311800" y="1925280"/>
            <a:ext cx="782640" cy="958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Text Box 10"/>
          <p:cNvSpPr/>
          <p:nvPr/>
        </p:nvSpPr>
        <p:spPr>
          <a:xfrm>
            <a:off x="5472000" y="268128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urce cel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5365 0 E">
                                      <p:cBhvr>
                                        <p:cTn id="90" dur="2000" fill="hold"/>
                                        <p:tgtEl>
                                          <p:spTgt spid="6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1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5365 0 E">
                                      <p:cBhvr>
                                        <p:cTn id="92" dur="2000" fill="hold"/>
                                        <p:tgtEl>
                                          <p:spTgt spid="7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Footer Placeholder 4"/>
          <p:cNvSpPr/>
          <p:nvPr/>
        </p:nvSpPr>
        <p:spPr>
          <a:xfrm>
            <a:off x="2859120" y="6578640"/>
            <a:ext cx="28954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535353"/>
                </a:solidFill>
                <a:latin typeface="Arial"/>
              </a:rPr>
              <a:t>Copyright Pearson Prentice Hall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935600" y="0"/>
            <a:ext cx="40766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Arial"/>
              </a:rPr>
              <a:t>Water Pressure</a:t>
            </a:r>
            <a:endParaRPr b="1" lang="en-US" sz="1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272880" y="1095120"/>
            <a:ext cx="8547120" cy="48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Water Pressure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  <a:p>
            <a:pPr lvl="2" marL="287280" indent="0"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ylem tissue forms a continuous set of tubes that runs from the roots through stems and out into the spongy mesophyll of leav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287280" indent="0"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 transport and root pressure cause water to move from soil into plant roo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287280" indent="0"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pillary action and transpiration also are needed to transport water and minera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85000"/>
              </a:lnSpc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4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Footer Placeholder 4"/>
          <p:cNvSpPr/>
          <p:nvPr/>
        </p:nvSpPr>
        <p:spPr>
          <a:xfrm>
            <a:off x="2859120" y="6578640"/>
            <a:ext cx="28954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535353"/>
                </a:solidFill>
                <a:latin typeface="Arial"/>
              </a:rPr>
              <a:t>Copyright Pearson Prentice Hall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5" name="Picture 6" descr="23_05_19-20-21slide"/>
          <p:cNvPicPr/>
          <p:nvPr/>
        </p:nvPicPr>
        <p:blipFill>
          <a:blip r:embed="rId1"/>
          <a:stretch/>
        </p:blipFill>
        <p:spPr>
          <a:xfrm>
            <a:off x="4084560" y="574560"/>
            <a:ext cx="4275360" cy="5762880"/>
          </a:xfrm>
          <a:prstGeom prst="rect">
            <a:avLst/>
          </a:prstGeom>
          <a:ln w="0">
            <a:noFill/>
          </a:ln>
        </p:spPr>
      </p:pic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935600" y="0"/>
            <a:ext cx="40766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Arial"/>
              </a:rPr>
              <a:t>Nutrient Transport</a:t>
            </a:r>
            <a:endParaRPr b="1" lang="en-US" sz="1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272880" y="1095120"/>
            <a:ext cx="4299120" cy="48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 sugar concentrations increase in the phloem, water from the xylem moves in by osmos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Rectangle 7"/>
          <p:cNvSpPr/>
          <p:nvPr/>
        </p:nvSpPr>
        <p:spPr>
          <a:xfrm>
            <a:off x="5880240" y="973080"/>
            <a:ext cx="876240" cy="444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Rectangle 8"/>
          <p:cNvSpPr/>
          <p:nvPr/>
        </p:nvSpPr>
        <p:spPr>
          <a:xfrm>
            <a:off x="5918040" y="2760840"/>
            <a:ext cx="838440" cy="190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Rectangle 14"/>
          <p:cNvSpPr/>
          <p:nvPr/>
        </p:nvSpPr>
        <p:spPr>
          <a:xfrm>
            <a:off x="6858000" y="425520"/>
            <a:ext cx="1486080" cy="291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Text Box 15"/>
          <p:cNvSpPr/>
          <p:nvPr/>
        </p:nvSpPr>
        <p:spPr>
          <a:xfrm>
            <a:off x="2776680" y="4762440"/>
            <a:ext cx="151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vement of wat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Text Box 16"/>
          <p:cNvSpPr/>
          <p:nvPr/>
        </p:nvSpPr>
        <p:spPr>
          <a:xfrm>
            <a:off x="2776680" y="5408640"/>
            <a:ext cx="154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vement of suga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Line 17"/>
          <p:cNvSpPr/>
          <p:nvPr/>
        </p:nvSpPr>
        <p:spPr>
          <a:xfrm>
            <a:off x="2278080" y="5092560"/>
            <a:ext cx="490680" cy="0"/>
          </a:xfrm>
          <a:prstGeom prst="line">
            <a:avLst/>
          </a:prstGeom>
          <a:ln w="76320">
            <a:solidFill>
              <a:srgbClr val="00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Line 18"/>
          <p:cNvSpPr/>
          <p:nvPr/>
        </p:nvSpPr>
        <p:spPr>
          <a:xfrm>
            <a:off x="2278080" y="5757840"/>
            <a:ext cx="49068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Rectangle 19"/>
          <p:cNvSpPr/>
          <p:nvPr/>
        </p:nvSpPr>
        <p:spPr>
          <a:xfrm>
            <a:off x="2165400" y="4605480"/>
            <a:ext cx="2133720" cy="14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Rectangle 20"/>
          <p:cNvSpPr/>
          <p:nvPr/>
        </p:nvSpPr>
        <p:spPr>
          <a:xfrm>
            <a:off x="2066760" y="4722840"/>
            <a:ext cx="2102040" cy="1393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Rectangle 22"/>
          <p:cNvSpPr/>
          <p:nvPr/>
        </p:nvSpPr>
        <p:spPr>
          <a:xfrm>
            <a:off x="4245120" y="696960"/>
            <a:ext cx="1306440" cy="124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Line 23"/>
          <p:cNvSpPr/>
          <p:nvPr/>
        </p:nvSpPr>
        <p:spPr>
          <a:xfrm flipH="1">
            <a:off x="7821720" y="2232000"/>
            <a:ext cx="490320" cy="0"/>
          </a:xfrm>
          <a:prstGeom prst="line">
            <a:avLst/>
          </a:prstGeom>
          <a:ln w="76320">
            <a:solidFill>
              <a:srgbClr val="00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Line 24"/>
          <p:cNvSpPr/>
          <p:nvPr/>
        </p:nvSpPr>
        <p:spPr>
          <a:xfrm flipH="1">
            <a:off x="7821720" y="2548080"/>
            <a:ext cx="490320" cy="0"/>
          </a:xfrm>
          <a:prstGeom prst="line">
            <a:avLst/>
          </a:prstGeom>
          <a:ln w="76320">
            <a:solidFill>
              <a:srgbClr val="00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Text Box 29"/>
          <p:cNvSpPr/>
          <p:nvPr/>
        </p:nvSpPr>
        <p:spPr>
          <a:xfrm>
            <a:off x="5587920" y="812880"/>
            <a:ext cx="181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gar molecu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Text Box 30"/>
          <p:cNvSpPr/>
          <p:nvPr/>
        </p:nvSpPr>
        <p:spPr>
          <a:xfrm>
            <a:off x="6654960" y="438120"/>
            <a:ext cx="101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hloem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Text Box 31"/>
          <p:cNvSpPr/>
          <p:nvPr/>
        </p:nvSpPr>
        <p:spPr>
          <a:xfrm>
            <a:off x="7607160" y="425520"/>
            <a:ext cx="101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ylem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Text Box 32"/>
          <p:cNvSpPr/>
          <p:nvPr/>
        </p:nvSpPr>
        <p:spPr>
          <a:xfrm>
            <a:off x="5472000" y="268128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urce cel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1615 -0.02037 -0.03212 -0.04074 -0.04879 -0.04282 C -0.06545 -0.0449 -0.08281 -0.02893 -0.1 -0.01273 E">
                                      <p:cBhvr>
                                        <p:cTn id="98" dur="2000" fill="hold"/>
                                        <p:tgtEl>
                                          <p:spTgt spid="7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9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1615 -0.02037 -0.03212 -0.04074 -0.04879 -0.04282 C -0.06545 -0.0449 -0.08281 -0.02893 -0.1 -0.01273 E">
                                      <p:cBhvr>
                                        <p:cTn id="100" dur="2000" fill="hold"/>
                                        <p:tgtEl>
                                          <p:spTgt spid="7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Footer Placeholder 4"/>
          <p:cNvSpPr/>
          <p:nvPr/>
        </p:nvSpPr>
        <p:spPr>
          <a:xfrm>
            <a:off x="2859120" y="6578640"/>
            <a:ext cx="28954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535353"/>
                </a:solidFill>
                <a:latin typeface="Arial"/>
              </a:rPr>
              <a:t>Copyright Pearson Prentice Hall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5" name="Picture 10" descr="23_05_19-20-21slide"/>
          <p:cNvPicPr/>
          <p:nvPr/>
        </p:nvPicPr>
        <p:blipFill>
          <a:blip r:embed="rId1"/>
          <a:stretch/>
        </p:blipFill>
        <p:spPr>
          <a:xfrm>
            <a:off x="4084560" y="574560"/>
            <a:ext cx="4268880" cy="5754960"/>
          </a:xfrm>
          <a:prstGeom prst="rect">
            <a:avLst/>
          </a:prstGeom>
          <a:ln w="0">
            <a:noFill/>
          </a:ln>
        </p:spPr>
      </p:pic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935600" y="0"/>
            <a:ext cx="40766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Arial"/>
              </a:rPr>
              <a:t>Nutrient Transport</a:t>
            </a:r>
            <a:endParaRPr b="1" lang="en-US" sz="1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27" name="Rectangle 11"/>
          <p:cNvSpPr/>
          <p:nvPr/>
        </p:nvSpPr>
        <p:spPr>
          <a:xfrm>
            <a:off x="5854680" y="1076400"/>
            <a:ext cx="828720" cy="320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Rectangle 12"/>
          <p:cNvSpPr/>
          <p:nvPr/>
        </p:nvSpPr>
        <p:spPr>
          <a:xfrm>
            <a:off x="5934240" y="2733840"/>
            <a:ext cx="793440" cy="314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Rectangle 15"/>
          <p:cNvSpPr/>
          <p:nvPr/>
        </p:nvSpPr>
        <p:spPr>
          <a:xfrm>
            <a:off x="6985080" y="507960"/>
            <a:ext cx="1406520" cy="282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Text Box 29"/>
          <p:cNvSpPr/>
          <p:nvPr/>
        </p:nvSpPr>
        <p:spPr>
          <a:xfrm>
            <a:off x="2776680" y="4762440"/>
            <a:ext cx="151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vement of wat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Text Box 30"/>
          <p:cNvSpPr/>
          <p:nvPr/>
        </p:nvSpPr>
        <p:spPr>
          <a:xfrm>
            <a:off x="2776680" y="5408640"/>
            <a:ext cx="154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vement of suga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Line 31"/>
          <p:cNvSpPr/>
          <p:nvPr/>
        </p:nvSpPr>
        <p:spPr>
          <a:xfrm>
            <a:off x="2278080" y="5092560"/>
            <a:ext cx="490680" cy="0"/>
          </a:xfrm>
          <a:prstGeom prst="line">
            <a:avLst/>
          </a:prstGeom>
          <a:ln w="76320">
            <a:solidFill>
              <a:srgbClr val="00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Line 32"/>
          <p:cNvSpPr/>
          <p:nvPr/>
        </p:nvSpPr>
        <p:spPr>
          <a:xfrm>
            <a:off x="2278080" y="5757840"/>
            <a:ext cx="49068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Rectangle 33"/>
          <p:cNvSpPr/>
          <p:nvPr/>
        </p:nvSpPr>
        <p:spPr>
          <a:xfrm>
            <a:off x="2165400" y="4605480"/>
            <a:ext cx="2133720" cy="14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Rectangle 34"/>
          <p:cNvSpPr/>
          <p:nvPr/>
        </p:nvSpPr>
        <p:spPr>
          <a:xfrm>
            <a:off x="2066760" y="4722840"/>
            <a:ext cx="2102040" cy="1393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Rectangle 35"/>
          <p:cNvSpPr/>
          <p:nvPr/>
        </p:nvSpPr>
        <p:spPr>
          <a:xfrm>
            <a:off x="4255920" y="708120"/>
            <a:ext cx="1600200" cy="1252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272880" y="1095120"/>
            <a:ext cx="4299120" cy="48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movement causes an increase in pressure at that point, forcing nutrient-rich fluid to move through the phloem from nutrient-producing regions 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Line 37"/>
          <p:cNvSpPr/>
          <p:nvPr/>
        </p:nvSpPr>
        <p:spPr>
          <a:xfrm>
            <a:off x="7174080" y="522360"/>
            <a:ext cx="0" cy="490320"/>
          </a:xfrm>
          <a:prstGeom prst="line">
            <a:avLst/>
          </a:prstGeom>
          <a:ln w="76320">
            <a:solidFill>
              <a:srgbClr val="00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Line 38"/>
          <p:cNvSpPr/>
          <p:nvPr/>
        </p:nvSpPr>
        <p:spPr>
          <a:xfrm>
            <a:off x="7338960" y="352440"/>
            <a:ext cx="0" cy="4906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Rectangle 39"/>
          <p:cNvSpPr/>
          <p:nvPr/>
        </p:nvSpPr>
        <p:spPr>
          <a:xfrm>
            <a:off x="7935840" y="0"/>
            <a:ext cx="642960" cy="54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Rectangle 40"/>
          <p:cNvSpPr/>
          <p:nvPr/>
        </p:nvSpPr>
        <p:spPr>
          <a:xfrm>
            <a:off x="6802560" y="3436920"/>
            <a:ext cx="752400" cy="959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Text Box 45"/>
          <p:cNvSpPr/>
          <p:nvPr/>
        </p:nvSpPr>
        <p:spPr>
          <a:xfrm>
            <a:off x="5587920" y="812880"/>
            <a:ext cx="181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gar molecu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Text Box 46"/>
          <p:cNvSpPr/>
          <p:nvPr/>
        </p:nvSpPr>
        <p:spPr>
          <a:xfrm>
            <a:off x="6654960" y="438120"/>
            <a:ext cx="101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hloem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Text Box 47"/>
          <p:cNvSpPr/>
          <p:nvPr/>
        </p:nvSpPr>
        <p:spPr>
          <a:xfrm>
            <a:off x="7607160" y="425520"/>
            <a:ext cx="101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ylem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Text Box 48"/>
          <p:cNvSpPr/>
          <p:nvPr/>
        </p:nvSpPr>
        <p:spPr>
          <a:xfrm>
            <a:off x="5472000" y="268128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urce cel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0.2412 L 1.38889E-006 0.45717 E">
                                      <p:cBhvr>
                                        <p:cTn id="106" dur="2000" fill="hold"/>
                                        <p:tgtEl>
                                          <p:spTgt spid="7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7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0.23171 L -4.16667E-006 0.45717 E">
                                      <p:cBhvr>
                                        <p:cTn id="108" dur="2000" fill="hold"/>
                                        <p:tgtEl>
                                          <p:spTgt spid="7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Footer Placeholder 4"/>
          <p:cNvSpPr/>
          <p:nvPr/>
        </p:nvSpPr>
        <p:spPr>
          <a:xfrm>
            <a:off x="2859120" y="6578640"/>
            <a:ext cx="28954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535353"/>
                </a:solidFill>
                <a:latin typeface="Arial"/>
              </a:rPr>
              <a:t>Copyright Pearson Prentice Hall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935600" y="0"/>
            <a:ext cx="40766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Arial"/>
              </a:rPr>
              <a:t>Nutrient Transport</a:t>
            </a:r>
            <a:endParaRPr b="1" lang="en-US" sz="1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272880" y="1095120"/>
            <a:ext cx="4299120" cy="48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toward a region that uses these nutrients (sink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9" name="Picture 5" descr="23_05_22-23slide"/>
          <p:cNvPicPr/>
          <p:nvPr/>
        </p:nvPicPr>
        <p:blipFill>
          <a:blip r:embed="rId1"/>
          <a:stretch/>
        </p:blipFill>
        <p:spPr>
          <a:xfrm>
            <a:off x="4178160" y="496800"/>
            <a:ext cx="4206960" cy="5618160"/>
          </a:xfrm>
          <a:prstGeom prst="rect">
            <a:avLst/>
          </a:prstGeom>
          <a:ln w="0">
            <a:noFill/>
          </a:ln>
        </p:spPr>
      </p:pic>
      <p:sp>
        <p:nvSpPr>
          <p:cNvPr id="750" name="Rectangle 9"/>
          <p:cNvSpPr/>
          <p:nvPr/>
        </p:nvSpPr>
        <p:spPr>
          <a:xfrm>
            <a:off x="6108840" y="5905440"/>
            <a:ext cx="2222280" cy="279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Text Box 6"/>
          <p:cNvSpPr/>
          <p:nvPr/>
        </p:nvSpPr>
        <p:spPr>
          <a:xfrm>
            <a:off x="7645320" y="5816520"/>
            <a:ext cx="101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ylem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Text Box 7"/>
          <p:cNvSpPr/>
          <p:nvPr/>
        </p:nvSpPr>
        <p:spPr>
          <a:xfrm>
            <a:off x="6781680" y="5803920"/>
            <a:ext cx="101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hloem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Text Box 25"/>
          <p:cNvSpPr/>
          <p:nvPr/>
        </p:nvSpPr>
        <p:spPr>
          <a:xfrm>
            <a:off x="7283520" y="1279440"/>
            <a:ext cx="151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vement of wat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Text Box 26"/>
          <p:cNvSpPr/>
          <p:nvPr/>
        </p:nvSpPr>
        <p:spPr>
          <a:xfrm>
            <a:off x="7283520" y="1925640"/>
            <a:ext cx="154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vement of suga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Line 27"/>
          <p:cNvSpPr/>
          <p:nvPr/>
        </p:nvSpPr>
        <p:spPr>
          <a:xfrm>
            <a:off x="6784920" y="1609560"/>
            <a:ext cx="490680" cy="0"/>
          </a:xfrm>
          <a:prstGeom prst="line">
            <a:avLst/>
          </a:prstGeom>
          <a:ln w="76320">
            <a:solidFill>
              <a:srgbClr val="00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Line 28"/>
          <p:cNvSpPr/>
          <p:nvPr/>
        </p:nvSpPr>
        <p:spPr>
          <a:xfrm>
            <a:off x="6784920" y="2274840"/>
            <a:ext cx="49068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Rectangle 29"/>
          <p:cNvSpPr/>
          <p:nvPr/>
        </p:nvSpPr>
        <p:spPr>
          <a:xfrm>
            <a:off x="6672240" y="1122480"/>
            <a:ext cx="2133720" cy="14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Rectangle 30"/>
          <p:cNvSpPr/>
          <p:nvPr/>
        </p:nvSpPr>
        <p:spPr>
          <a:xfrm>
            <a:off x="6573960" y="1239840"/>
            <a:ext cx="2101680" cy="1393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Rectangle 31"/>
          <p:cNvSpPr/>
          <p:nvPr/>
        </p:nvSpPr>
        <p:spPr>
          <a:xfrm>
            <a:off x="4287960" y="4387680"/>
            <a:ext cx="1284120" cy="119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Line 37"/>
          <p:cNvSpPr/>
          <p:nvPr/>
        </p:nvSpPr>
        <p:spPr>
          <a:xfrm>
            <a:off x="7227720" y="2900520"/>
            <a:ext cx="0" cy="490320"/>
          </a:xfrm>
          <a:prstGeom prst="line">
            <a:avLst/>
          </a:prstGeom>
          <a:ln w="76320">
            <a:solidFill>
              <a:srgbClr val="00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Line 38"/>
          <p:cNvSpPr/>
          <p:nvPr/>
        </p:nvSpPr>
        <p:spPr>
          <a:xfrm>
            <a:off x="7392960" y="2730600"/>
            <a:ext cx="0" cy="4903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Rectangle 39"/>
          <p:cNvSpPr/>
          <p:nvPr/>
        </p:nvSpPr>
        <p:spPr>
          <a:xfrm>
            <a:off x="6967440" y="2660760"/>
            <a:ext cx="642960" cy="544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Rectangle 41"/>
          <p:cNvSpPr/>
          <p:nvPr/>
        </p:nvSpPr>
        <p:spPr>
          <a:xfrm>
            <a:off x="4908600" y="5311800"/>
            <a:ext cx="752400" cy="95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Text Box 8"/>
          <p:cNvSpPr/>
          <p:nvPr/>
        </p:nvSpPr>
        <p:spPr>
          <a:xfrm>
            <a:off x="5060880" y="5662440"/>
            <a:ext cx="120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k cel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-4.81481E-006 L -1.38889E-006 0.33033 E">
                                      <p:cBhvr>
                                        <p:cTn id="114" dur="2000" fill="hold"/>
                                        <p:tgtEl>
                                          <p:spTgt spid="7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5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3.7037E-006 L 3.05556E-006 0.33333 E">
                                      <p:cBhvr>
                                        <p:cTn id="116" dur="2000" fill="hold"/>
                                        <p:tgtEl>
                                          <p:spTgt spid="7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Footer Placeholder 4"/>
          <p:cNvSpPr/>
          <p:nvPr/>
        </p:nvSpPr>
        <p:spPr>
          <a:xfrm>
            <a:off x="2859120" y="6578640"/>
            <a:ext cx="28954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535353"/>
                </a:solidFill>
                <a:latin typeface="Arial"/>
              </a:rPr>
              <a:t>Copyright Pearson Prentice Hall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6" name="Picture 5" descr="23_05_22-23slide"/>
          <p:cNvPicPr/>
          <p:nvPr/>
        </p:nvPicPr>
        <p:blipFill>
          <a:blip r:embed="rId1"/>
          <a:stretch/>
        </p:blipFill>
        <p:spPr>
          <a:xfrm>
            <a:off x="4178160" y="496800"/>
            <a:ext cx="4206960" cy="5618160"/>
          </a:xfrm>
          <a:prstGeom prst="rect">
            <a:avLst/>
          </a:prstGeom>
          <a:ln w="0">
            <a:noFill/>
          </a:ln>
        </p:spPr>
      </p:pic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935600" y="0"/>
            <a:ext cx="40766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Arial"/>
              </a:rPr>
              <a:t>Nutrient Transport</a:t>
            </a:r>
            <a:endParaRPr b="1" lang="en-US" sz="1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272880" y="1095120"/>
            <a:ext cx="4299120" cy="48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part of a plant actively absorbs nutrients from the phloem, osmosis causes water to follo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decreases pressure and causes a movement of fluid in the phloem toward the sin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Text Box 10"/>
          <p:cNvSpPr/>
          <p:nvPr/>
        </p:nvSpPr>
        <p:spPr>
          <a:xfrm>
            <a:off x="7283520" y="1279440"/>
            <a:ext cx="151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vement of wat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Text Box 11"/>
          <p:cNvSpPr/>
          <p:nvPr/>
        </p:nvSpPr>
        <p:spPr>
          <a:xfrm>
            <a:off x="7283520" y="1925640"/>
            <a:ext cx="154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vement of suga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Line 12"/>
          <p:cNvSpPr/>
          <p:nvPr/>
        </p:nvSpPr>
        <p:spPr>
          <a:xfrm>
            <a:off x="6784920" y="1609560"/>
            <a:ext cx="490680" cy="0"/>
          </a:xfrm>
          <a:prstGeom prst="line">
            <a:avLst/>
          </a:prstGeom>
          <a:ln w="76320">
            <a:solidFill>
              <a:srgbClr val="00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Line 13"/>
          <p:cNvSpPr/>
          <p:nvPr/>
        </p:nvSpPr>
        <p:spPr>
          <a:xfrm>
            <a:off x="6784920" y="2274840"/>
            <a:ext cx="49068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Rectangle 14"/>
          <p:cNvSpPr/>
          <p:nvPr/>
        </p:nvSpPr>
        <p:spPr>
          <a:xfrm>
            <a:off x="6672240" y="1122480"/>
            <a:ext cx="2133720" cy="14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Rectangle 15"/>
          <p:cNvSpPr/>
          <p:nvPr/>
        </p:nvSpPr>
        <p:spPr>
          <a:xfrm>
            <a:off x="6573960" y="1239840"/>
            <a:ext cx="2101680" cy="1393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Rectangle 17"/>
          <p:cNvSpPr/>
          <p:nvPr/>
        </p:nvSpPr>
        <p:spPr>
          <a:xfrm>
            <a:off x="4278240" y="4387680"/>
            <a:ext cx="1382760" cy="1273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Line 19"/>
          <p:cNvSpPr/>
          <p:nvPr/>
        </p:nvSpPr>
        <p:spPr>
          <a:xfrm flipH="1">
            <a:off x="7090920" y="5322960"/>
            <a:ext cx="49068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Line 20"/>
          <p:cNvSpPr/>
          <p:nvPr/>
        </p:nvSpPr>
        <p:spPr>
          <a:xfrm flipH="1">
            <a:off x="7101000" y="5532480"/>
            <a:ext cx="49032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Rectangle 21"/>
          <p:cNvSpPr/>
          <p:nvPr/>
        </p:nvSpPr>
        <p:spPr>
          <a:xfrm>
            <a:off x="6149880" y="5867280"/>
            <a:ext cx="577800" cy="25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Rectangle 28"/>
          <p:cNvSpPr/>
          <p:nvPr/>
        </p:nvSpPr>
        <p:spPr>
          <a:xfrm>
            <a:off x="6846840" y="5921280"/>
            <a:ext cx="1425600" cy="19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Text Box 29"/>
          <p:cNvSpPr/>
          <p:nvPr/>
        </p:nvSpPr>
        <p:spPr>
          <a:xfrm>
            <a:off x="7645320" y="5816520"/>
            <a:ext cx="101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ylem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Text Box 30"/>
          <p:cNvSpPr/>
          <p:nvPr/>
        </p:nvSpPr>
        <p:spPr>
          <a:xfrm>
            <a:off x="6781680" y="5803920"/>
            <a:ext cx="101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hloem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60880" y="5662440"/>
            <a:ext cx="120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k cel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26 -0.00185 L -0.10469 -0.00185 E">
                                      <p:cBhvr>
                                        <p:cTn id="122" dur="2000" fill="hold"/>
                                        <p:tgtEl>
                                          <p:spTgt spid="7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3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26 -0.00185 L -0.10469 -0.00185 E">
                                      <p:cBhvr>
                                        <p:cTn id="124" dur="2000" fill="hold"/>
                                        <p:tgtEl>
                                          <p:spTgt spid="7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Footer Placeholder 4"/>
          <p:cNvSpPr/>
          <p:nvPr/>
        </p:nvSpPr>
        <p:spPr>
          <a:xfrm>
            <a:off x="3124080" y="6629400"/>
            <a:ext cx="28958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535353"/>
                </a:solidFill>
                <a:latin typeface="Arial"/>
              </a:rPr>
              <a:t>Copyright Pearson Prentice Hall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14400" y="165240"/>
            <a:ext cx="1069920" cy="42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23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–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5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272520" y="1095120"/>
            <a:ext cx="8502840" cy="43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625320"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86" name="Rectangle 4"/>
          <p:cNvSpPr/>
          <p:nvPr/>
        </p:nvSpPr>
        <p:spPr>
          <a:xfrm>
            <a:off x="5335560" y="2662200"/>
            <a:ext cx="2546280" cy="11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Footer Placeholder 4"/>
          <p:cNvSpPr/>
          <p:nvPr/>
        </p:nvSpPr>
        <p:spPr>
          <a:xfrm>
            <a:off x="3124080" y="6629400"/>
            <a:ext cx="28958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535353"/>
                </a:solidFill>
                <a:latin typeface="Arial"/>
              </a:rPr>
              <a:t>Copyright Pearson Prentice Hall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14400" y="165240"/>
            <a:ext cx="1069920" cy="42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23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–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5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272520" y="1095120"/>
            <a:ext cx="8502840" cy="43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25320"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a plant stem, water moves fro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95560" indent="-449280">
              <a:spcAft>
                <a:spcPts val="1749"/>
              </a:spcAft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ves to roots through xylem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95560" indent="-449280">
              <a:spcAft>
                <a:spcPts val="1749"/>
              </a:spcAft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ots to leaves through xylem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95560" indent="-449280">
              <a:spcAft>
                <a:spcPts val="1749"/>
              </a:spcAft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ves to roots through phloem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95560" indent="-449280">
              <a:spcAft>
                <a:spcPts val="1749"/>
              </a:spcAft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ots to leaves through phloem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Rectangle 4"/>
          <p:cNvSpPr/>
          <p:nvPr/>
        </p:nvSpPr>
        <p:spPr>
          <a:xfrm>
            <a:off x="949320" y="2438280"/>
            <a:ext cx="7731000" cy="451080"/>
          </a:xfrm>
          <a:prstGeom prst="rect">
            <a:avLst/>
          </a:prstGeom>
          <a:solidFill>
            <a:srgbClr val="00cc00">
              <a:alpha val="28000"/>
            </a:srgbClr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1" name="Picture 5" descr="1"/>
          <p:cNvPicPr/>
          <p:nvPr/>
        </p:nvPicPr>
        <p:blipFill>
          <a:blip r:embed="rId1"/>
          <a:stretch/>
        </p:blipFill>
        <p:spPr>
          <a:xfrm>
            <a:off x="241200" y="1022400"/>
            <a:ext cx="585720" cy="523800"/>
          </a:xfrm>
          <a:prstGeom prst="rect">
            <a:avLst/>
          </a:prstGeom>
          <a:ln w="0">
            <a:noFill/>
          </a:ln>
        </p:spPr>
      </p:pic>
      <p:pic>
        <p:nvPicPr>
          <p:cNvPr id="792" name="Picture 6" descr="A"/>
          <p:cNvPicPr/>
          <p:nvPr/>
        </p:nvPicPr>
        <p:blipFill>
          <a:blip r:embed="rId2"/>
          <a:stretch/>
        </p:blipFill>
        <p:spPr>
          <a:xfrm>
            <a:off x="236520" y="2406600"/>
            <a:ext cx="582480" cy="5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Footer Placeholder 4"/>
          <p:cNvSpPr/>
          <p:nvPr/>
        </p:nvSpPr>
        <p:spPr>
          <a:xfrm>
            <a:off x="3124080" y="6629400"/>
            <a:ext cx="28958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535353"/>
                </a:solidFill>
                <a:latin typeface="Arial"/>
              </a:rPr>
              <a:t>Copyright Pearson Prentice Hall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14400" y="165240"/>
            <a:ext cx="1069920" cy="42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23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–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5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272520" y="1095120"/>
            <a:ext cx="8502840" cy="43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25320"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ch of the following is NOT involved in the movement of water in xylem tissue?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95560" indent="-449280">
              <a:spcAft>
                <a:spcPts val="1749"/>
              </a:spcAft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hes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95560" indent="-449280">
              <a:spcAft>
                <a:spcPts val="1749"/>
              </a:spcAft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mosi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95560" indent="-449280">
              <a:spcAft>
                <a:spcPts val="1749"/>
              </a:spcAft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pillary ac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95560" indent="-449280">
              <a:spcAft>
                <a:spcPts val="1749"/>
              </a:spcAft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hes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Rectangle 4"/>
          <p:cNvSpPr/>
          <p:nvPr/>
        </p:nvSpPr>
        <p:spPr>
          <a:xfrm>
            <a:off x="949320" y="2854440"/>
            <a:ext cx="7731000" cy="450720"/>
          </a:xfrm>
          <a:prstGeom prst="rect">
            <a:avLst/>
          </a:prstGeom>
          <a:solidFill>
            <a:srgbClr val="00cc00">
              <a:alpha val="28000"/>
            </a:srgbClr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7" name="Picture 5" descr="A"/>
          <p:cNvPicPr/>
          <p:nvPr/>
        </p:nvPicPr>
        <p:blipFill>
          <a:blip r:embed="rId1"/>
          <a:stretch/>
        </p:blipFill>
        <p:spPr>
          <a:xfrm>
            <a:off x="236520" y="2822400"/>
            <a:ext cx="582480" cy="519120"/>
          </a:xfrm>
          <a:prstGeom prst="rect">
            <a:avLst/>
          </a:prstGeom>
          <a:ln w="0">
            <a:noFill/>
          </a:ln>
        </p:spPr>
      </p:pic>
      <p:pic>
        <p:nvPicPr>
          <p:cNvPr id="798" name="Picture 6" descr="2"/>
          <p:cNvPicPr/>
          <p:nvPr/>
        </p:nvPicPr>
        <p:blipFill>
          <a:blip r:embed="rId2"/>
          <a:stretch/>
        </p:blipFill>
        <p:spPr>
          <a:xfrm>
            <a:off x="237960" y="1022400"/>
            <a:ext cx="586080" cy="52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Footer Placeholder 4"/>
          <p:cNvSpPr/>
          <p:nvPr/>
        </p:nvSpPr>
        <p:spPr>
          <a:xfrm>
            <a:off x="3124080" y="6629400"/>
            <a:ext cx="28958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535353"/>
                </a:solidFill>
                <a:latin typeface="Arial"/>
              </a:rPr>
              <a:t>Copyright Pearson Prentice Hall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14400" y="165240"/>
            <a:ext cx="1069920" cy="42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23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–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5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272520" y="1095120"/>
            <a:ext cx="8502840" cy="43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25320"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nutrients are pumped into the phloem system of a plant, the increased concentr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95560" indent="-449280">
              <a:spcAft>
                <a:spcPts val="1749"/>
              </a:spcAft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uses fluid to move into the system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95560" indent="-449280">
              <a:spcAft>
                <a:spcPts val="1749"/>
              </a:spcAft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uses fluid to move out of the system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95560" indent="-449280">
              <a:spcAft>
                <a:spcPts val="1749"/>
              </a:spcAft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s no effect on the movement of fluid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95560" indent="-449280">
              <a:spcAft>
                <a:spcPts val="1749"/>
              </a:spcAft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uses fluid to move into the xylem vessels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2" name="Picture 4" descr="3"/>
          <p:cNvPicPr/>
          <p:nvPr/>
        </p:nvPicPr>
        <p:blipFill>
          <a:blip r:embed="rId1"/>
          <a:stretch/>
        </p:blipFill>
        <p:spPr>
          <a:xfrm>
            <a:off x="236520" y="1022400"/>
            <a:ext cx="585720" cy="520560"/>
          </a:xfrm>
          <a:prstGeom prst="rect">
            <a:avLst/>
          </a:prstGeom>
          <a:ln w="0">
            <a:noFill/>
          </a:ln>
        </p:spPr>
      </p:pic>
      <p:sp>
        <p:nvSpPr>
          <p:cNvPr id="803" name="Rectangle 5"/>
          <p:cNvSpPr/>
          <p:nvPr/>
        </p:nvSpPr>
        <p:spPr>
          <a:xfrm>
            <a:off x="949320" y="2225520"/>
            <a:ext cx="7731000" cy="451080"/>
          </a:xfrm>
          <a:prstGeom prst="rect">
            <a:avLst/>
          </a:prstGeom>
          <a:solidFill>
            <a:srgbClr val="00cc00">
              <a:alpha val="28000"/>
            </a:srgbClr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4" name="Picture 6" descr="A"/>
          <p:cNvPicPr/>
          <p:nvPr/>
        </p:nvPicPr>
        <p:blipFill>
          <a:blip r:embed="rId2"/>
          <a:stretch/>
        </p:blipFill>
        <p:spPr>
          <a:xfrm>
            <a:off x="236520" y="2193840"/>
            <a:ext cx="582480" cy="5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Footer Placeholder 4"/>
          <p:cNvSpPr/>
          <p:nvPr/>
        </p:nvSpPr>
        <p:spPr>
          <a:xfrm>
            <a:off x="3124080" y="6629400"/>
            <a:ext cx="28958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535353"/>
                </a:solidFill>
                <a:latin typeface="Arial"/>
              </a:rPr>
              <a:t>Copyright Pearson Prentice Hall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14400" y="165240"/>
            <a:ext cx="1069920" cy="42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23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–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5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272520" y="1095120"/>
            <a:ext cx="8502840" cy="43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25320"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a plant, sugar is moved from source cells to sink cells by a process of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95560" indent="-449280">
              <a:spcAft>
                <a:spcPts val="1749"/>
              </a:spcAft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loem transport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95560" indent="-449280">
              <a:spcAft>
                <a:spcPts val="1749"/>
              </a:spcAft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ylem transport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95560" indent="-449280">
              <a:spcAft>
                <a:spcPts val="1749"/>
              </a:spcAft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mosis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95560" indent="-449280">
              <a:spcAft>
                <a:spcPts val="1749"/>
              </a:spcAft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us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Rectangle 4"/>
          <p:cNvSpPr/>
          <p:nvPr/>
        </p:nvSpPr>
        <p:spPr>
          <a:xfrm>
            <a:off x="949320" y="2239920"/>
            <a:ext cx="7731000" cy="426960"/>
          </a:xfrm>
          <a:prstGeom prst="rect">
            <a:avLst/>
          </a:prstGeom>
          <a:solidFill>
            <a:srgbClr val="00cc00">
              <a:alpha val="28000"/>
            </a:srgbClr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9" name="Picture 5" descr="A"/>
          <p:cNvPicPr/>
          <p:nvPr/>
        </p:nvPicPr>
        <p:blipFill>
          <a:blip r:embed="rId1"/>
          <a:stretch/>
        </p:blipFill>
        <p:spPr>
          <a:xfrm>
            <a:off x="236520" y="2208240"/>
            <a:ext cx="582480" cy="519120"/>
          </a:xfrm>
          <a:prstGeom prst="rect">
            <a:avLst/>
          </a:prstGeom>
          <a:ln w="0">
            <a:noFill/>
          </a:ln>
        </p:spPr>
      </p:pic>
      <p:pic>
        <p:nvPicPr>
          <p:cNvPr id="810" name="Picture 6" descr="4"/>
          <p:cNvPicPr/>
          <p:nvPr/>
        </p:nvPicPr>
        <p:blipFill>
          <a:blip r:embed="rId2"/>
          <a:stretch/>
        </p:blipFill>
        <p:spPr>
          <a:xfrm>
            <a:off x="236520" y="1022400"/>
            <a:ext cx="585720" cy="52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Footer Placeholder 4"/>
          <p:cNvSpPr/>
          <p:nvPr/>
        </p:nvSpPr>
        <p:spPr>
          <a:xfrm>
            <a:off x="3124080" y="6629400"/>
            <a:ext cx="28958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535353"/>
                </a:solidFill>
                <a:latin typeface="Arial"/>
              </a:rPr>
              <a:t>Copyright Pearson Prentice Hall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14400" y="165240"/>
            <a:ext cx="1069920" cy="42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23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–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5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72520" y="1095120"/>
            <a:ext cx="8502840" cy="43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25320"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very tall trees, which of the following is primarily involved in moving water to the top of the tree?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95560" indent="-449280">
              <a:spcAft>
                <a:spcPts val="1749"/>
              </a:spcAft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pirational pul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95560" indent="-449280">
              <a:spcAft>
                <a:spcPts val="1749"/>
              </a:spcAft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pillary ac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95560" indent="-449280">
              <a:spcAft>
                <a:spcPts val="1749"/>
              </a:spcAft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ot press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95560" indent="-449280">
              <a:spcAft>
                <a:spcPts val="1749"/>
              </a:spcAft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mo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Rectangle 4"/>
          <p:cNvSpPr/>
          <p:nvPr/>
        </p:nvSpPr>
        <p:spPr>
          <a:xfrm>
            <a:off x="949320" y="2668680"/>
            <a:ext cx="7731000" cy="450720"/>
          </a:xfrm>
          <a:prstGeom prst="rect">
            <a:avLst/>
          </a:prstGeom>
          <a:solidFill>
            <a:srgbClr val="00cc00">
              <a:alpha val="28000"/>
            </a:srgbClr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5" name="Picture 5" descr="A"/>
          <p:cNvPicPr/>
          <p:nvPr/>
        </p:nvPicPr>
        <p:blipFill>
          <a:blip r:embed="rId1"/>
          <a:stretch/>
        </p:blipFill>
        <p:spPr>
          <a:xfrm>
            <a:off x="236520" y="2637000"/>
            <a:ext cx="582480" cy="519120"/>
          </a:xfrm>
          <a:prstGeom prst="rect">
            <a:avLst/>
          </a:prstGeom>
          <a:ln w="0">
            <a:noFill/>
          </a:ln>
        </p:spPr>
      </p:pic>
      <p:pic>
        <p:nvPicPr>
          <p:cNvPr id="816" name="Picture 6" descr="5"/>
          <p:cNvPicPr/>
          <p:nvPr/>
        </p:nvPicPr>
        <p:blipFill>
          <a:blip r:embed="rId2"/>
          <a:stretch/>
        </p:blipFill>
        <p:spPr>
          <a:xfrm>
            <a:off x="236520" y="1022400"/>
            <a:ext cx="585720" cy="52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Footer Placeholder 4"/>
          <p:cNvSpPr/>
          <p:nvPr/>
        </p:nvSpPr>
        <p:spPr>
          <a:xfrm>
            <a:off x="2859120" y="6578640"/>
            <a:ext cx="28954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535353"/>
                </a:solidFill>
                <a:latin typeface="Arial"/>
              </a:rPr>
              <a:t>Copyright Pearson Prentice Hall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938840" y="0"/>
            <a:ext cx="40766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Arial"/>
              </a:rPr>
              <a:t>Water Pressure</a:t>
            </a:r>
            <a:endParaRPr b="1" lang="en-US" sz="1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272880" y="1095480"/>
            <a:ext cx="8871120" cy="46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000"/>
              </a:spcBef>
              <a:spcAft>
                <a:spcPts val="2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  <a:p>
            <a:pPr lvl="1" marL="1206360" indent="0">
              <a:spcBef>
                <a:spcPts val="3501"/>
              </a:spcBef>
              <a:spcAft>
                <a:spcPts val="876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400"/>
                </a:solidFill>
                <a:latin typeface="Arial"/>
              </a:rPr>
              <a:t>How is water transported throughout a plant?</a:t>
            </a:r>
            <a:endParaRPr b="1" lang="en-US" sz="2800" spc="-1" strike="noStrike">
              <a:solidFill>
                <a:srgbClr val="0064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0" y="292392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END OF SECT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Footer Placeholder 4"/>
          <p:cNvSpPr/>
          <p:nvPr/>
        </p:nvSpPr>
        <p:spPr>
          <a:xfrm>
            <a:off x="2859120" y="6578640"/>
            <a:ext cx="28954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535353"/>
                </a:solidFill>
                <a:latin typeface="Arial"/>
              </a:rPr>
              <a:t>Copyright Pearson Prentice Hall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935600" y="0"/>
            <a:ext cx="40766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Arial"/>
              </a:rPr>
              <a:t>Water Pressure</a:t>
            </a:r>
            <a:endParaRPr b="1" lang="en-US" sz="1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272880" y="1095480"/>
            <a:ext cx="8871120" cy="46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000"/>
              </a:spcBef>
              <a:spcAft>
                <a:spcPts val="2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  <a:p>
            <a:pPr lvl="1" marL="1206360" indent="0">
              <a:spcBef>
                <a:spcPts val="3501"/>
              </a:spcBef>
              <a:spcAft>
                <a:spcPts val="876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combination of root pressure, capillary action, and transpiration provides enough force to move water through the xylem tissue of even the tallest plant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Footer Placeholder 4"/>
          <p:cNvSpPr/>
          <p:nvPr/>
        </p:nvSpPr>
        <p:spPr>
          <a:xfrm>
            <a:off x="2859120" y="6578640"/>
            <a:ext cx="28954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535353"/>
                </a:solidFill>
                <a:latin typeface="Arial"/>
              </a:rPr>
              <a:t>Copyright Pearson Prentice Hall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935600" y="0"/>
            <a:ext cx="40766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Arial"/>
              </a:rPr>
              <a:t>Water Pressure</a:t>
            </a:r>
            <a:endParaRPr b="1" lang="en-US" sz="1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272520" y="1095120"/>
            <a:ext cx="8642520" cy="48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hesion is the attraction of molecules of the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am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ubstance to each oth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hes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the attraction between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unlik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olecu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Footer Placeholder 4"/>
          <p:cNvSpPr/>
          <p:nvPr/>
        </p:nvSpPr>
        <p:spPr>
          <a:xfrm>
            <a:off x="2859120" y="6578640"/>
            <a:ext cx="28954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535353"/>
                </a:solidFill>
                <a:latin typeface="Arial"/>
              </a:rPr>
              <a:t>Copyright Pearson Prentice Hall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935600" y="0"/>
            <a:ext cx="40766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Arial"/>
              </a:rPr>
              <a:t>Water Pressure</a:t>
            </a:r>
            <a:endParaRPr b="1" lang="en-US" sz="1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272880" y="1095120"/>
            <a:ext cx="4299120" cy="48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tendency of water to rise in a thin tube is called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pillary ac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ter is attracted to the walls of the tube, and water molecules are attracted to one anoth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5" name="Picture 5" descr="23_05_07&amp;08slide"/>
          <p:cNvPicPr/>
          <p:nvPr/>
        </p:nvPicPr>
        <p:blipFill>
          <a:blip r:embed="rId1"/>
          <a:stretch/>
        </p:blipFill>
        <p:spPr>
          <a:xfrm>
            <a:off x="4633920" y="569880"/>
            <a:ext cx="3727440" cy="571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Footer Placeholder 4"/>
          <p:cNvSpPr/>
          <p:nvPr/>
        </p:nvSpPr>
        <p:spPr>
          <a:xfrm>
            <a:off x="2859120" y="6578640"/>
            <a:ext cx="28954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535353"/>
                </a:solidFill>
                <a:latin typeface="Arial"/>
              </a:rPr>
              <a:t>Copyright Pearson Prentice Hall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935600" y="0"/>
            <a:ext cx="40766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Arial"/>
              </a:rPr>
              <a:t>Water Pressure</a:t>
            </a:r>
            <a:endParaRPr b="1" lang="en-US" sz="1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272880" y="1095120"/>
            <a:ext cx="4299120" cy="48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pillary action causes water to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move much higher in a narrow tub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an in a wide tub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9" name="Picture 5" descr="23_05_07&amp;08slide"/>
          <p:cNvPicPr/>
          <p:nvPr/>
        </p:nvPicPr>
        <p:blipFill>
          <a:blip r:embed="rId1"/>
          <a:stretch/>
        </p:blipFill>
        <p:spPr>
          <a:xfrm>
            <a:off x="4257720" y="647640"/>
            <a:ext cx="3767040" cy="57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Footer Placeholder 4"/>
          <p:cNvSpPr/>
          <p:nvPr/>
        </p:nvSpPr>
        <p:spPr>
          <a:xfrm>
            <a:off x="2859120" y="6578640"/>
            <a:ext cx="28954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535353"/>
                </a:solidFill>
                <a:latin typeface="Arial"/>
              </a:rPr>
              <a:t>Copyright Pearson Prentice Hall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935600" y="0"/>
            <a:ext cx="40766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Arial"/>
              </a:rPr>
              <a:t>Water Pressure</a:t>
            </a:r>
            <a:endParaRPr b="1" lang="en-US" sz="1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272520" y="1095120"/>
            <a:ext cx="8642520" cy="48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xy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tracheids and vessel elements form hollow connected tubes in a plan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pillary action in these structure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auses water to rise well above the level of the grou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Footer Placeholder 4"/>
          <p:cNvSpPr/>
          <p:nvPr/>
        </p:nvSpPr>
        <p:spPr>
          <a:xfrm>
            <a:off x="2859120" y="6578640"/>
            <a:ext cx="28954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535353"/>
                </a:solidFill>
                <a:latin typeface="Arial"/>
              </a:rPr>
              <a:t>Copyright Pearson Prentice Hall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935600" y="0"/>
            <a:ext cx="40766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Arial"/>
              </a:rPr>
              <a:t>Water Pressure</a:t>
            </a:r>
            <a:endParaRPr b="1" lang="en-US" sz="1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272880" y="1095120"/>
            <a:ext cx="8547120" cy="48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114480" indent="0">
              <a:lnSpc>
                <a:spcPct val="85000"/>
              </a:lnSpc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400"/>
                </a:solidFill>
                <a:latin typeface="Arial"/>
              </a:rPr>
              <a:t>Transpiration</a:t>
            </a:r>
            <a:endParaRPr b="1" lang="en-US" sz="2800" spc="-1" strike="noStrike">
              <a:solidFill>
                <a:srgbClr val="006400"/>
              </a:solidFill>
              <a:latin typeface="Arial"/>
            </a:endParaRPr>
          </a:p>
          <a:p>
            <a:pPr lvl="2" marL="287280" indent="0"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all plants, the major force in water transport comes from the evaporation of water from lea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287280" indent="0"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 this type of evaporation is called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transpir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3T06:42:51Z</dcterms:created>
  <dc:creator>Vikas</dc:creator>
  <dc:description/>
  <dc:language>en-US</dc:language>
  <cp:lastModifiedBy>MVanElli</cp:lastModifiedBy>
  <dcterms:modified xsi:type="dcterms:W3CDTF">2011-01-18T15:41:31Z</dcterms:modified>
  <cp:revision>61</cp:revision>
  <dc:subject/>
  <dc:title>Biology</dc:title>
</cp:coreProperties>
</file>